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4AA93-9598-4216-BA4B-B5BE12F8FF2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F669A-74C5-4244-9A5E-D37E9AE625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232240" y="503280"/>
            <a:ext cx="341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95360" y="1195560"/>
            <a:ext cx="815328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除数是整十数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笔算除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商是一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3"/>
          <p:cNvGrpSpPr/>
          <p:nvPr/>
        </p:nvGrpSpPr>
        <p:grpSpPr>
          <a:xfrm>
            <a:off x="864360" y="1293840"/>
            <a:ext cx="7360560" cy="3385800"/>
            <a:chOff x="864360" y="1293840"/>
            <a:chExt cx="7360560" cy="3385800"/>
          </a:xfrm>
        </p:grpSpPr>
        <p:sp>
          <p:nvSpPr>
            <p:cNvPr id="230" name="TextBox 36"/>
            <p:cNvSpPr/>
            <p:nvPr/>
          </p:nvSpPr>
          <p:spPr>
            <a:xfrm>
              <a:off x="1087200" y="1293840"/>
              <a:ext cx="71377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填一填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因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里面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所以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要写在被除数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位上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被除数的前两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不够除，要看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位。因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×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积接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且小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所以商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余数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1" name="组合 10"/>
            <p:cNvGrpSpPr/>
            <p:nvPr/>
          </p:nvGrpSpPr>
          <p:grpSpPr>
            <a:xfrm>
              <a:off x="864360" y="1488600"/>
              <a:ext cx="1832760" cy="1259640"/>
              <a:chOff x="864360" y="1488600"/>
              <a:chExt cx="1832760" cy="1259640"/>
            </a:xfrm>
          </p:grpSpPr>
          <p:grpSp>
            <p:nvGrpSpPr>
              <p:cNvPr id="232" name="组合 11"/>
              <p:cNvGrpSpPr/>
              <p:nvPr/>
            </p:nvGrpSpPr>
            <p:grpSpPr>
              <a:xfrm>
                <a:off x="864360" y="1488600"/>
                <a:ext cx="1832760" cy="1259640"/>
                <a:chOff x="864360" y="1488600"/>
                <a:chExt cx="1832760" cy="1259640"/>
              </a:xfrm>
            </p:grpSpPr>
            <p:grpSp>
              <p:nvGrpSpPr>
                <p:cNvPr id="233" name="组合 25"/>
                <p:cNvGrpSpPr/>
                <p:nvPr/>
              </p:nvGrpSpPr>
              <p:grpSpPr>
                <a:xfrm>
                  <a:off x="864360" y="1488600"/>
                  <a:ext cx="1664640" cy="1259640"/>
                  <a:chOff x="864360" y="1488600"/>
                  <a:chExt cx="1664640" cy="1259640"/>
                </a:xfrm>
              </p:grpSpPr>
              <p:sp>
                <p:nvSpPr>
                  <p:cNvPr id="234" name="直接连接符 15"/>
                  <p:cNvSpPr/>
                  <p:nvPr/>
                </p:nvSpPr>
                <p:spPr>
                  <a:xfrm>
                    <a:off x="1933560" y="2015640"/>
                    <a:ext cx="59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" name="弧形 16"/>
                  <p:cNvSpPr/>
                  <p:nvPr/>
                </p:nvSpPr>
                <p:spPr>
                  <a:xfrm rot="4684800">
                    <a:off x="921960" y="1622160"/>
                    <a:ext cx="107784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7148" h="991522">
                        <a:moveTo>
                          <a:pt x="538574" y="0"/>
                        </a:moveTo>
                        <a:cubicBezTo>
                          <a:pt x="673039" y="0"/>
                          <a:pt x="802640" y="46301"/>
                          <a:pt x="901899" y="129801"/>
                        </a:cubicBezTo>
                        <a:lnTo>
                          <a:pt x="538574" y="495761"/>
                        </a:lnTo>
                        <a:lnTo>
                          <a:pt x="538574" y="0"/>
                        </a:lnTo>
                        <a:close/>
                      </a:path>
                      <a:path fill="none" w="1077148" h="991522">
                        <a:moveTo>
                          <a:pt x="538574" y="0"/>
                        </a:moveTo>
                        <a:cubicBezTo>
                          <a:pt x="673039" y="0"/>
                          <a:pt x="802640" y="46301"/>
                          <a:pt x="901899" y="12980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36" name="TextBox 15"/>
                <p:cNvSpPr/>
                <p:nvPr/>
              </p:nvSpPr>
              <p:spPr>
                <a:xfrm>
                  <a:off x="1944720" y="1861920"/>
                  <a:ext cx="752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7" name="矩形 36"/>
              <p:cNvSpPr/>
              <p:nvPr/>
            </p:nvSpPr>
            <p:spPr>
              <a:xfrm>
                <a:off x="1316160" y="1990440"/>
                <a:ext cx="7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82440" indent="-82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17"/>
            <p:cNvGrpSpPr/>
            <p:nvPr/>
          </p:nvGrpSpPr>
          <p:grpSpPr>
            <a:xfrm>
              <a:off x="865800" y="2570040"/>
              <a:ext cx="1830960" cy="1259640"/>
              <a:chOff x="865800" y="2570040"/>
              <a:chExt cx="1830960" cy="1259640"/>
            </a:xfrm>
          </p:grpSpPr>
          <p:grpSp>
            <p:nvGrpSpPr>
              <p:cNvPr id="239" name="组合 18"/>
              <p:cNvGrpSpPr/>
              <p:nvPr/>
            </p:nvGrpSpPr>
            <p:grpSpPr>
              <a:xfrm>
                <a:off x="865800" y="2570040"/>
                <a:ext cx="1830960" cy="1259640"/>
                <a:chOff x="865800" y="2570040"/>
                <a:chExt cx="1830960" cy="1259640"/>
              </a:xfrm>
            </p:grpSpPr>
            <p:grpSp>
              <p:nvGrpSpPr>
                <p:cNvPr id="240" name="组合 25"/>
                <p:cNvGrpSpPr/>
                <p:nvPr/>
              </p:nvGrpSpPr>
              <p:grpSpPr>
                <a:xfrm>
                  <a:off x="865800" y="2570040"/>
                  <a:ext cx="1662840" cy="1259640"/>
                  <a:chOff x="865800" y="2570040"/>
                  <a:chExt cx="1662840" cy="1259640"/>
                </a:xfrm>
              </p:grpSpPr>
              <p:sp>
                <p:nvSpPr>
                  <p:cNvPr id="241" name="直接连接符 22"/>
                  <p:cNvSpPr/>
                  <p:nvPr/>
                </p:nvSpPr>
                <p:spPr>
                  <a:xfrm>
                    <a:off x="1935000" y="3097080"/>
                    <a:ext cx="593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" name="弧形 23"/>
                  <p:cNvSpPr/>
                  <p:nvPr/>
                </p:nvSpPr>
                <p:spPr>
                  <a:xfrm rot="4684800">
                    <a:off x="923400" y="2703600"/>
                    <a:ext cx="107784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7148" h="992430">
                        <a:moveTo>
                          <a:pt x="538574" y="0"/>
                        </a:moveTo>
                        <a:cubicBezTo>
                          <a:pt x="673123" y="0"/>
                          <a:pt x="802800" y="46402"/>
                          <a:pt x="902080" y="130072"/>
                        </a:cubicBezTo>
                        <a:lnTo>
                          <a:pt x="538574" y="496215"/>
                        </a:lnTo>
                        <a:lnTo>
                          <a:pt x="538574" y="0"/>
                        </a:lnTo>
                        <a:close/>
                      </a:path>
                      <a:path fill="none" w="1077148" h="992430">
                        <a:moveTo>
                          <a:pt x="538574" y="0"/>
                        </a:moveTo>
                        <a:cubicBezTo>
                          <a:pt x="673123" y="0"/>
                          <a:pt x="802800" y="46402"/>
                          <a:pt x="902080" y="1300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43" name="TextBox 15"/>
                <p:cNvSpPr/>
                <p:nvPr/>
              </p:nvSpPr>
              <p:spPr>
                <a:xfrm>
                  <a:off x="1944360" y="2943360"/>
                  <a:ext cx="752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44" name="矩形 36"/>
              <p:cNvSpPr/>
              <p:nvPr/>
            </p:nvSpPr>
            <p:spPr>
              <a:xfrm>
                <a:off x="1399680" y="307188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矩形 1"/>
          <p:cNvSpPr/>
          <p:nvPr/>
        </p:nvSpPr>
        <p:spPr>
          <a:xfrm>
            <a:off x="5108040" y="198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6"/>
          <p:cNvSpPr/>
          <p:nvPr/>
        </p:nvSpPr>
        <p:spPr>
          <a:xfrm>
            <a:off x="1721880" y="255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4660920" y="252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6135480" y="307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3138480" y="3635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28"/>
          <p:cNvSpPr/>
          <p:nvPr/>
        </p:nvSpPr>
        <p:spPr>
          <a:xfrm>
            <a:off x="6059520" y="36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9"/>
          <p:cNvSpPr/>
          <p:nvPr/>
        </p:nvSpPr>
        <p:spPr>
          <a:xfrm>
            <a:off x="5091120" y="421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7236000" y="4025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6"/>
          <p:cNvSpPr/>
          <p:nvPr/>
        </p:nvSpPr>
        <p:spPr>
          <a:xfrm>
            <a:off x="1027080" y="130644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下面的竖式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4"/>
          <p:cNvGrpSpPr/>
          <p:nvPr/>
        </p:nvGrpSpPr>
        <p:grpSpPr>
          <a:xfrm>
            <a:off x="938880" y="2057400"/>
            <a:ext cx="3345840" cy="1372320"/>
            <a:chOff x="938880" y="2057400"/>
            <a:chExt cx="3345840" cy="1372320"/>
          </a:xfrm>
        </p:grpSpPr>
        <p:grpSp>
          <p:nvGrpSpPr>
            <p:cNvPr id="255" name="组合 25"/>
            <p:cNvGrpSpPr/>
            <p:nvPr/>
          </p:nvGrpSpPr>
          <p:grpSpPr>
            <a:xfrm>
              <a:off x="938880" y="2170440"/>
              <a:ext cx="2521440" cy="1259280"/>
              <a:chOff x="938880" y="2170440"/>
              <a:chExt cx="2521440" cy="1259280"/>
            </a:xfrm>
          </p:grpSpPr>
          <p:sp>
            <p:nvSpPr>
              <p:cNvPr id="256" name="直接连接符 6"/>
              <p:cNvSpPr/>
              <p:nvPr/>
            </p:nvSpPr>
            <p:spPr>
              <a:xfrm>
                <a:off x="2008080" y="2697480"/>
                <a:ext cx="14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弧形 7"/>
              <p:cNvSpPr/>
              <p:nvPr/>
            </p:nvSpPr>
            <p:spPr>
              <a:xfrm rot="4684800">
                <a:off x="996840" y="2303640"/>
                <a:ext cx="1077480" cy="992160"/>
              </a:xfrm>
              <a:custGeom>
                <a:avLst/>
                <a:gdLst/>
                <a:ahLst/>
                <a:rect l="l" t="t" r="r" b="b"/>
                <a:pathLst>
                  <a:path stroke="0" w="1077148" h="992250">
                    <a:moveTo>
                      <a:pt x="538574" y="0"/>
                    </a:moveTo>
                    <a:cubicBezTo>
                      <a:pt x="734310" y="0"/>
                      <a:pt x="914637" y="97825"/>
                      <a:pt x="1009567" y="255508"/>
                    </a:cubicBezTo>
                    <a:lnTo>
                      <a:pt x="538574" y="496125"/>
                    </a:lnTo>
                    <a:lnTo>
                      <a:pt x="538574" y="0"/>
                    </a:lnTo>
                    <a:close/>
                  </a:path>
                  <a:path fill="none" w="1077148" h="992250">
                    <a:moveTo>
                      <a:pt x="538574" y="0"/>
                    </a:moveTo>
                    <a:cubicBezTo>
                      <a:pt x="734310" y="0"/>
                      <a:pt x="914637" y="97825"/>
                      <a:pt x="1009567" y="2555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TextBox 15"/>
            <p:cNvSpPr/>
            <p:nvPr/>
          </p:nvSpPr>
          <p:spPr>
            <a:xfrm>
              <a:off x="2053440" y="2057400"/>
              <a:ext cx="223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 0  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6"/>
            <p:cNvSpPr/>
            <p:nvPr/>
          </p:nvSpPr>
          <p:spPr>
            <a:xfrm>
              <a:off x="1418400" y="273924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24"/>
          <p:cNvGrpSpPr/>
          <p:nvPr/>
        </p:nvGrpSpPr>
        <p:grpSpPr>
          <a:xfrm>
            <a:off x="3342600" y="2057400"/>
            <a:ext cx="3382200" cy="1372320"/>
            <a:chOff x="3342600" y="2057400"/>
            <a:chExt cx="3382200" cy="1372320"/>
          </a:xfrm>
        </p:grpSpPr>
        <p:grpSp>
          <p:nvGrpSpPr>
            <p:cNvPr id="261" name="组合 25"/>
            <p:cNvGrpSpPr/>
            <p:nvPr/>
          </p:nvGrpSpPr>
          <p:grpSpPr>
            <a:xfrm>
              <a:off x="3342600" y="2170440"/>
              <a:ext cx="2521800" cy="1259280"/>
              <a:chOff x="3342600" y="2170440"/>
              <a:chExt cx="2521800" cy="1259280"/>
            </a:xfrm>
          </p:grpSpPr>
          <p:sp>
            <p:nvSpPr>
              <p:cNvPr id="262" name="直接连接符 12"/>
              <p:cNvSpPr/>
              <p:nvPr/>
            </p:nvSpPr>
            <p:spPr>
              <a:xfrm>
                <a:off x="4411800" y="2697480"/>
                <a:ext cx="14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弧形 13"/>
              <p:cNvSpPr/>
              <p:nvPr/>
            </p:nvSpPr>
            <p:spPr>
              <a:xfrm rot="4684800">
                <a:off x="3400560" y="2303640"/>
                <a:ext cx="1077480" cy="992160"/>
              </a:xfrm>
              <a:custGeom>
                <a:avLst/>
                <a:gdLst/>
                <a:ahLst/>
                <a:rect l="l" t="t" r="r" b="b"/>
                <a:pathLst>
                  <a:path stroke="0" w="1077148" h="991977">
                    <a:moveTo>
                      <a:pt x="538574" y="0"/>
                    </a:moveTo>
                    <a:cubicBezTo>
                      <a:pt x="734288" y="0"/>
                      <a:pt x="914597" y="97776"/>
                      <a:pt x="1009537" y="255388"/>
                    </a:cubicBezTo>
                    <a:lnTo>
                      <a:pt x="538574" y="495989"/>
                    </a:lnTo>
                    <a:lnTo>
                      <a:pt x="538574" y="0"/>
                    </a:lnTo>
                    <a:close/>
                  </a:path>
                  <a:path fill="none" w="1077148" h="991977">
                    <a:moveTo>
                      <a:pt x="538574" y="0"/>
                    </a:moveTo>
                    <a:cubicBezTo>
                      <a:pt x="734288" y="0"/>
                      <a:pt x="914597" y="97776"/>
                      <a:pt x="1009537" y="2553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4" name="TextBox 15"/>
            <p:cNvSpPr/>
            <p:nvPr/>
          </p:nvSpPr>
          <p:spPr>
            <a:xfrm>
              <a:off x="4492800" y="2057400"/>
              <a:ext cx="22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7 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36"/>
            <p:cNvSpPr/>
            <p:nvPr/>
          </p:nvSpPr>
          <p:spPr>
            <a:xfrm>
              <a:off x="3845880" y="273924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24"/>
          <p:cNvGrpSpPr/>
          <p:nvPr/>
        </p:nvGrpSpPr>
        <p:grpSpPr>
          <a:xfrm>
            <a:off x="5657040" y="2052720"/>
            <a:ext cx="3382200" cy="1371960"/>
            <a:chOff x="5657040" y="2052720"/>
            <a:chExt cx="3382200" cy="1371960"/>
          </a:xfrm>
        </p:grpSpPr>
        <p:grpSp>
          <p:nvGrpSpPr>
            <p:cNvPr id="267" name="组合 25"/>
            <p:cNvGrpSpPr/>
            <p:nvPr/>
          </p:nvGrpSpPr>
          <p:grpSpPr>
            <a:xfrm>
              <a:off x="5657040" y="2165400"/>
              <a:ext cx="2521800" cy="1259280"/>
              <a:chOff x="5657040" y="2165400"/>
              <a:chExt cx="2521800" cy="1259280"/>
            </a:xfrm>
          </p:grpSpPr>
          <p:sp>
            <p:nvSpPr>
              <p:cNvPr id="268" name="直接连接符 18"/>
              <p:cNvSpPr/>
              <p:nvPr/>
            </p:nvSpPr>
            <p:spPr>
              <a:xfrm>
                <a:off x="6726240" y="2692440"/>
                <a:ext cx="14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弧形 19"/>
              <p:cNvSpPr/>
              <p:nvPr/>
            </p:nvSpPr>
            <p:spPr>
              <a:xfrm rot="4684800">
                <a:off x="5715000" y="2298600"/>
                <a:ext cx="1077480" cy="992160"/>
              </a:xfrm>
              <a:custGeom>
                <a:avLst/>
                <a:gdLst/>
                <a:ahLst/>
                <a:rect l="l" t="t" r="r" b="b"/>
                <a:pathLst>
                  <a:path stroke="0" w="1077148" h="991977">
                    <a:moveTo>
                      <a:pt x="538574" y="0"/>
                    </a:moveTo>
                    <a:cubicBezTo>
                      <a:pt x="734288" y="0"/>
                      <a:pt x="914597" y="97776"/>
                      <a:pt x="1009537" y="255388"/>
                    </a:cubicBezTo>
                    <a:lnTo>
                      <a:pt x="538574" y="495989"/>
                    </a:lnTo>
                    <a:lnTo>
                      <a:pt x="538574" y="0"/>
                    </a:lnTo>
                    <a:close/>
                  </a:path>
                  <a:path fill="none" w="1077148" h="991977">
                    <a:moveTo>
                      <a:pt x="538574" y="0"/>
                    </a:moveTo>
                    <a:cubicBezTo>
                      <a:pt x="734288" y="0"/>
                      <a:pt x="914597" y="97776"/>
                      <a:pt x="1009537" y="2553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TextBox 15"/>
            <p:cNvSpPr/>
            <p:nvPr/>
          </p:nvSpPr>
          <p:spPr>
            <a:xfrm>
              <a:off x="6807240" y="2052720"/>
              <a:ext cx="22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9 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36"/>
            <p:cNvSpPr/>
            <p:nvPr/>
          </p:nvSpPr>
          <p:spPr>
            <a:xfrm>
              <a:off x="6160320" y="273420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组合 1"/>
          <p:cNvGrpSpPr/>
          <p:nvPr/>
        </p:nvGrpSpPr>
        <p:grpSpPr>
          <a:xfrm>
            <a:off x="1922400" y="2057400"/>
            <a:ext cx="2362320" cy="2288520"/>
            <a:chOff x="1922400" y="2057400"/>
            <a:chExt cx="2362320" cy="2288520"/>
          </a:xfrm>
        </p:grpSpPr>
        <p:sp>
          <p:nvSpPr>
            <p:cNvPr id="273" name="TextBox 15"/>
            <p:cNvSpPr/>
            <p:nvPr/>
          </p:nvSpPr>
          <p:spPr>
            <a:xfrm>
              <a:off x="2052000" y="2057400"/>
              <a:ext cx="223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  0  0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 28"/>
            <p:cNvSpPr/>
            <p:nvPr/>
          </p:nvSpPr>
          <p:spPr>
            <a:xfrm>
              <a:off x="1922400" y="3732120"/>
              <a:ext cx="158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1"/>
          <p:cNvGrpSpPr/>
          <p:nvPr/>
        </p:nvGrpSpPr>
        <p:grpSpPr>
          <a:xfrm>
            <a:off x="4363920" y="2046240"/>
            <a:ext cx="2362320" cy="2288520"/>
            <a:chOff x="4363920" y="2046240"/>
            <a:chExt cx="2362320" cy="2288520"/>
          </a:xfrm>
        </p:grpSpPr>
        <p:sp>
          <p:nvSpPr>
            <p:cNvPr id="276" name="TextBox 15"/>
            <p:cNvSpPr/>
            <p:nvPr/>
          </p:nvSpPr>
          <p:spPr>
            <a:xfrm>
              <a:off x="4493520" y="2046240"/>
              <a:ext cx="223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  7  0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接连接符 32"/>
            <p:cNvSpPr/>
            <p:nvPr/>
          </p:nvSpPr>
          <p:spPr>
            <a:xfrm>
              <a:off x="4363920" y="3719520"/>
              <a:ext cx="158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组合 1"/>
          <p:cNvGrpSpPr/>
          <p:nvPr/>
        </p:nvGrpSpPr>
        <p:grpSpPr>
          <a:xfrm>
            <a:off x="6678720" y="2041560"/>
            <a:ext cx="2361960" cy="2288520"/>
            <a:chOff x="6678720" y="2041560"/>
            <a:chExt cx="2361960" cy="2288520"/>
          </a:xfrm>
        </p:grpSpPr>
        <p:sp>
          <p:nvSpPr>
            <p:cNvPr id="279" name="TextBox 15"/>
            <p:cNvSpPr/>
            <p:nvPr/>
          </p:nvSpPr>
          <p:spPr>
            <a:xfrm>
              <a:off x="6808320" y="2041560"/>
              <a:ext cx="223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  8  0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 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接连接符 35"/>
            <p:cNvSpPr/>
            <p:nvPr/>
          </p:nvSpPr>
          <p:spPr>
            <a:xfrm>
              <a:off x="6678720" y="3714840"/>
              <a:ext cx="158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5400" y="224784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除数是整十数的笔算除法，要做到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看：看被除数的前两位，如果前两位不够除，就看前三位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写：除到被除数的哪一位，商就写在那一位的上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比：余数一定要比除数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6"/>
          <p:cNvSpPr/>
          <p:nvPr/>
        </p:nvSpPr>
        <p:spPr>
          <a:xfrm>
            <a:off x="896760" y="185436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电脑录人一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的文章。谁录人得快一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2301840" y="4687920"/>
            <a:ext cx="44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66÷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        4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男孩录入得快一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4336200" y="4757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1495440" y="2530440"/>
            <a:ext cx="62737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88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289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6"/>
          <p:cNvSpPr/>
          <p:nvPr/>
        </p:nvSpPr>
        <p:spPr>
          <a:xfrm>
            <a:off x="801720" y="1171440"/>
            <a:ext cx="721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王大爷的果园收获苹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，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，李子千克。 算一算：装这几种水果，各需要多少个纸箱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2"/>
          <p:cNvSpPr/>
          <p:nvPr/>
        </p:nvSpPr>
        <p:spPr>
          <a:xfrm>
            <a:off x="1731960" y="401652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8÷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            38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70÷3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6÷2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            1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装苹果需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纸箱，装梨需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纸箱，装李子需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3"/>
          <p:cNvSpPr/>
          <p:nvPr/>
        </p:nvSpPr>
        <p:spPr>
          <a:xfrm>
            <a:off x="3573000" y="4068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8"/>
          <p:cNvSpPr/>
          <p:nvPr/>
        </p:nvSpPr>
        <p:spPr>
          <a:xfrm>
            <a:off x="3567600" y="4975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7" descr=""/>
          <p:cNvPicPr/>
          <p:nvPr/>
        </p:nvPicPr>
        <p:blipFill>
          <a:blip r:embed="rId1"/>
          <a:stretch/>
        </p:blipFill>
        <p:spPr>
          <a:xfrm>
            <a:off x="3205080" y="2184480"/>
            <a:ext cx="266400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6"/>
          <p:cNvSpPr/>
          <p:nvPr/>
        </p:nvSpPr>
        <p:spPr>
          <a:xfrm>
            <a:off x="801720" y="1349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老师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给学校篮球队队员买运动衫，最多够买几件，还剩多少元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2122560" y="3781440"/>
            <a:ext cx="457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÷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         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最多够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件，还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3"/>
          <p:cNvSpPr/>
          <p:nvPr/>
        </p:nvSpPr>
        <p:spPr>
          <a:xfrm>
            <a:off x="4226040" y="3828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3487680" y="2495520"/>
            <a:ext cx="2098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6"/>
          <p:cNvSpPr/>
          <p:nvPr/>
        </p:nvSpPr>
        <p:spPr>
          <a:xfrm>
            <a:off x="1103400" y="192240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266÷40                       189÷20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7÷50                        562÷8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÷70                        216÷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2632320" y="201456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6         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2986200" y="194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5530680" y="201456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9        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2673000" y="247644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5        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5530680" y="256860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7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8"/>
          <p:cNvSpPr/>
          <p:nvPr/>
        </p:nvSpPr>
        <p:spPr>
          <a:xfrm>
            <a:off x="2639160" y="313524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3          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5428800" y="2981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7        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5897520" y="194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3011760" y="2536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2"/>
          <p:cNvSpPr/>
          <p:nvPr/>
        </p:nvSpPr>
        <p:spPr>
          <a:xfrm>
            <a:off x="5904000" y="25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3"/>
          <p:cNvSpPr/>
          <p:nvPr/>
        </p:nvSpPr>
        <p:spPr>
          <a:xfrm>
            <a:off x="3060720" y="306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14"/>
          <p:cNvSpPr/>
          <p:nvPr/>
        </p:nvSpPr>
        <p:spPr>
          <a:xfrm>
            <a:off x="5856480" y="3057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6"/>
          <p:cNvSpPr/>
          <p:nvPr/>
        </p:nvSpPr>
        <p:spPr>
          <a:xfrm>
            <a:off x="801720" y="134928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一条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的小路一旁植树，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栽一棵。一共需要栽多少棵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算得对呢？请你画一幅图来解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878120" y="2655720"/>
            <a:ext cx="1962000" cy="771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4924440" y="2509920"/>
            <a:ext cx="1981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6"/>
          <p:cNvSpPr/>
          <p:nvPr/>
        </p:nvSpPr>
        <p:spPr>
          <a:xfrm>
            <a:off x="3138480" y="176364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计算对吗？不对的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31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2"/>
          <p:cNvGrpSpPr/>
          <p:nvPr/>
        </p:nvGrpSpPr>
        <p:grpSpPr>
          <a:xfrm>
            <a:off x="1089720" y="2381400"/>
            <a:ext cx="4674960" cy="2313000"/>
            <a:chOff x="1089720" y="2381400"/>
            <a:chExt cx="4674960" cy="2313000"/>
          </a:xfrm>
        </p:grpSpPr>
        <p:grpSp>
          <p:nvGrpSpPr>
            <p:cNvPr id="321" name="组合 20"/>
            <p:cNvGrpSpPr/>
            <p:nvPr/>
          </p:nvGrpSpPr>
          <p:grpSpPr>
            <a:xfrm>
              <a:off x="1089720" y="2381400"/>
              <a:ext cx="3258360" cy="2288520"/>
              <a:chOff x="1089720" y="2381400"/>
              <a:chExt cx="3258360" cy="2288520"/>
            </a:xfrm>
          </p:grpSpPr>
          <p:grpSp>
            <p:nvGrpSpPr>
              <p:cNvPr id="322" name="组合 21"/>
              <p:cNvGrpSpPr/>
              <p:nvPr/>
            </p:nvGrpSpPr>
            <p:grpSpPr>
              <a:xfrm>
                <a:off x="1537920" y="2381400"/>
                <a:ext cx="2810160" cy="2288520"/>
                <a:chOff x="1537920" y="2381400"/>
                <a:chExt cx="2810160" cy="2288520"/>
              </a:xfrm>
            </p:grpSpPr>
            <p:sp>
              <p:nvSpPr>
                <p:cNvPr id="323" name="矩形 13"/>
                <p:cNvSpPr/>
                <p:nvPr/>
              </p:nvSpPr>
              <p:spPr>
                <a:xfrm>
                  <a:off x="1537920" y="3017160"/>
                  <a:ext cx="561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24" name="组合 1"/>
                <p:cNvGrpSpPr/>
                <p:nvPr/>
              </p:nvGrpSpPr>
              <p:grpSpPr>
                <a:xfrm>
                  <a:off x="1997640" y="2381400"/>
                  <a:ext cx="2350440" cy="2288520"/>
                  <a:chOff x="1997640" y="2381400"/>
                  <a:chExt cx="2350440" cy="2288520"/>
                </a:xfrm>
              </p:grpSpPr>
              <p:sp>
                <p:nvSpPr>
                  <p:cNvPr id="325" name="TextBox 15"/>
                  <p:cNvSpPr/>
                  <p:nvPr/>
                </p:nvSpPr>
                <p:spPr>
                  <a:xfrm>
                    <a:off x="2114640" y="2381400"/>
                    <a:ext cx="2233440" cy="228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  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  6  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  2  0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  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6" name="直接连接符 18"/>
                  <p:cNvSpPr/>
                  <p:nvPr/>
                </p:nvSpPr>
                <p:spPr>
                  <a:xfrm>
                    <a:off x="1997640" y="4078440"/>
                    <a:ext cx="1589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27" name="组合 22"/>
              <p:cNvGrpSpPr/>
              <p:nvPr/>
            </p:nvGrpSpPr>
            <p:grpSpPr>
              <a:xfrm>
                <a:off x="1089720" y="2471040"/>
                <a:ext cx="2521080" cy="1258200"/>
                <a:chOff x="1089720" y="2471040"/>
                <a:chExt cx="2521080" cy="1258200"/>
              </a:xfrm>
            </p:grpSpPr>
            <p:sp>
              <p:nvSpPr>
                <p:cNvPr id="328" name="直接连接符 13"/>
                <p:cNvSpPr/>
                <p:nvPr/>
              </p:nvSpPr>
              <p:spPr>
                <a:xfrm>
                  <a:off x="2159280" y="2998440"/>
                  <a:ext cx="145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9" name="弧形 14"/>
                <p:cNvSpPr/>
                <p:nvPr/>
              </p:nvSpPr>
              <p:spPr>
                <a:xfrm rot="4684800">
                  <a:off x="1148400" y="2603520"/>
                  <a:ext cx="1076400" cy="992520"/>
                </a:xfrm>
                <a:custGeom>
                  <a:avLst/>
                  <a:gdLst/>
                  <a:ahLst/>
                  <a:rect l="l" t="t" r="r" b="b"/>
                  <a:pathLst>
                    <a:path stroke="0" w="1076305" h="992396">
                      <a:moveTo>
                        <a:pt x="538152" y="0"/>
                      </a:moveTo>
                      <a:cubicBezTo>
                        <a:pt x="733811" y="0"/>
                        <a:pt x="914054" y="97915"/>
                        <a:pt x="1008880" y="255717"/>
                      </a:cubicBezTo>
                      <a:lnTo>
                        <a:pt x="538153" y="496198"/>
                      </a:lnTo>
                      <a:cubicBezTo>
                        <a:pt x="538153" y="330799"/>
                        <a:pt x="538152" y="165399"/>
                        <a:pt x="538152" y="0"/>
                      </a:cubicBezTo>
                      <a:close/>
                    </a:path>
                    <a:path fill="none" w="1076305" h="992396">
                      <a:moveTo>
                        <a:pt x="538152" y="0"/>
                      </a:moveTo>
                      <a:cubicBezTo>
                        <a:pt x="733811" y="0"/>
                        <a:pt x="914054" y="97915"/>
                        <a:pt x="1008880" y="25571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30" name="矩形 30"/>
            <p:cNvSpPr/>
            <p:nvPr/>
          </p:nvSpPr>
          <p:spPr>
            <a:xfrm>
              <a:off x="3624120" y="4051800"/>
              <a:ext cx="112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31"/>
            <p:cNvSpPr/>
            <p:nvPr/>
          </p:nvSpPr>
          <p:spPr>
            <a:xfrm>
              <a:off x="5035320" y="2788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改正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矩形 20"/>
          <p:cNvSpPr/>
          <p:nvPr/>
        </p:nvSpPr>
        <p:spPr>
          <a:xfrm>
            <a:off x="3965400" y="407988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21"/>
          <p:cNvSpPr/>
          <p:nvPr/>
        </p:nvSpPr>
        <p:spPr>
          <a:xfrm>
            <a:off x="2789280" y="489420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余数比除数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组合 22"/>
          <p:cNvGrpSpPr/>
          <p:nvPr/>
        </p:nvGrpSpPr>
        <p:grpSpPr>
          <a:xfrm>
            <a:off x="5299920" y="2481120"/>
            <a:ext cx="3353400" cy="3385800"/>
            <a:chOff x="5299920" y="2481120"/>
            <a:chExt cx="3353400" cy="3385800"/>
          </a:xfrm>
        </p:grpSpPr>
        <p:grpSp>
          <p:nvGrpSpPr>
            <p:cNvPr id="335" name="组合 3"/>
            <p:cNvGrpSpPr/>
            <p:nvPr/>
          </p:nvGrpSpPr>
          <p:grpSpPr>
            <a:xfrm>
              <a:off x="5783040" y="2481120"/>
              <a:ext cx="2870280" cy="3385800"/>
              <a:chOff x="5783040" y="2481120"/>
              <a:chExt cx="2870280" cy="3385800"/>
            </a:xfrm>
          </p:grpSpPr>
          <p:sp>
            <p:nvSpPr>
              <p:cNvPr id="336" name="矩形 13"/>
              <p:cNvSpPr/>
              <p:nvPr/>
            </p:nvSpPr>
            <p:spPr>
              <a:xfrm>
                <a:off x="5783040" y="312804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7" name="组合 1"/>
              <p:cNvGrpSpPr/>
              <p:nvPr/>
            </p:nvGrpSpPr>
            <p:grpSpPr>
              <a:xfrm>
                <a:off x="6291000" y="2481120"/>
                <a:ext cx="2362320" cy="3385800"/>
                <a:chOff x="6291000" y="2481120"/>
                <a:chExt cx="2362320" cy="3385800"/>
              </a:xfrm>
            </p:grpSpPr>
            <p:sp>
              <p:nvSpPr>
                <p:cNvPr id="338" name="TextBox 15"/>
                <p:cNvSpPr/>
                <p:nvPr/>
              </p:nvSpPr>
              <p:spPr>
                <a:xfrm>
                  <a:off x="6420600" y="248112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6  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5  0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直接连接符 30"/>
                <p:cNvSpPr/>
                <p:nvPr/>
              </p:nvSpPr>
              <p:spPr>
                <a:xfrm>
                  <a:off x="6291000" y="415440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0" name="组合 16"/>
            <p:cNvGrpSpPr/>
            <p:nvPr/>
          </p:nvGrpSpPr>
          <p:grpSpPr>
            <a:xfrm>
              <a:off x="5299920" y="2547360"/>
              <a:ext cx="2521080" cy="1258560"/>
              <a:chOff x="5299920" y="2547360"/>
              <a:chExt cx="2521080" cy="1258560"/>
            </a:xfrm>
          </p:grpSpPr>
          <p:sp>
            <p:nvSpPr>
              <p:cNvPr id="341" name="直接连接符 25"/>
              <p:cNvSpPr/>
              <p:nvPr/>
            </p:nvSpPr>
            <p:spPr>
              <a:xfrm>
                <a:off x="6368760" y="3074760"/>
                <a:ext cx="1452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弧形 26"/>
              <p:cNvSpPr/>
              <p:nvPr/>
            </p:nvSpPr>
            <p:spPr>
              <a:xfrm rot="4684800">
                <a:off x="5357880" y="2680560"/>
                <a:ext cx="1076760" cy="991800"/>
              </a:xfrm>
              <a:custGeom>
                <a:avLst/>
                <a:gdLst/>
                <a:ahLst/>
                <a:rect l="l" t="t" r="r" b="b"/>
                <a:pathLst>
                  <a:path stroke="0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  <a:lnTo>
                      <a:pt x="538163" y="496127"/>
                    </a:lnTo>
                    <a:cubicBezTo>
                      <a:pt x="538163" y="330751"/>
                      <a:pt x="538162" y="165376"/>
                      <a:pt x="538162" y="0"/>
                    </a:cubicBezTo>
                    <a:close/>
                  </a:path>
                  <a:path fill="none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6"/>
          <p:cNvSpPr/>
          <p:nvPr/>
        </p:nvSpPr>
        <p:spPr>
          <a:xfrm>
            <a:off x="2960640" y="134784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计算对吗？不对的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2"/>
          <p:cNvGrpSpPr/>
          <p:nvPr/>
        </p:nvGrpSpPr>
        <p:grpSpPr>
          <a:xfrm>
            <a:off x="1089720" y="2381400"/>
            <a:ext cx="4674960" cy="2313000"/>
            <a:chOff x="1089720" y="2381400"/>
            <a:chExt cx="4674960" cy="2313000"/>
          </a:xfrm>
        </p:grpSpPr>
        <p:grpSp>
          <p:nvGrpSpPr>
            <p:cNvPr id="345" name="组合 20"/>
            <p:cNvGrpSpPr/>
            <p:nvPr/>
          </p:nvGrpSpPr>
          <p:grpSpPr>
            <a:xfrm>
              <a:off x="1089720" y="2381400"/>
              <a:ext cx="3258360" cy="2288520"/>
              <a:chOff x="1089720" y="2381400"/>
              <a:chExt cx="3258360" cy="2288520"/>
            </a:xfrm>
          </p:grpSpPr>
          <p:grpSp>
            <p:nvGrpSpPr>
              <p:cNvPr id="346" name="组合 21"/>
              <p:cNvGrpSpPr/>
              <p:nvPr/>
            </p:nvGrpSpPr>
            <p:grpSpPr>
              <a:xfrm>
                <a:off x="1537920" y="2381400"/>
                <a:ext cx="2810160" cy="2288520"/>
                <a:chOff x="1537920" y="2381400"/>
                <a:chExt cx="2810160" cy="2288520"/>
              </a:xfrm>
            </p:grpSpPr>
            <p:sp>
              <p:nvSpPr>
                <p:cNvPr id="347" name="矩形 13"/>
                <p:cNvSpPr/>
                <p:nvPr/>
              </p:nvSpPr>
              <p:spPr>
                <a:xfrm>
                  <a:off x="1537920" y="3017160"/>
                  <a:ext cx="561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8" name="组合 1"/>
                <p:cNvGrpSpPr/>
                <p:nvPr/>
              </p:nvGrpSpPr>
              <p:grpSpPr>
                <a:xfrm>
                  <a:off x="1997640" y="2381400"/>
                  <a:ext cx="2350440" cy="2288520"/>
                  <a:chOff x="1997640" y="2381400"/>
                  <a:chExt cx="2350440" cy="2288520"/>
                </a:xfrm>
              </p:grpSpPr>
              <p:sp>
                <p:nvSpPr>
                  <p:cNvPr id="349" name="TextBox 15"/>
                  <p:cNvSpPr/>
                  <p:nvPr/>
                </p:nvSpPr>
                <p:spPr>
                  <a:xfrm>
                    <a:off x="2114640" y="2381400"/>
                    <a:ext cx="2233440" cy="228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  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  3  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  4  0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  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0" name="直接连接符 16"/>
                  <p:cNvSpPr/>
                  <p:nvPr/>
                </p:nvSpPr>
                <p:spPr>
                  <a:xfrm>
                    <a:off x="1997640" y="4078440"/>
                    <a:ext cx="1589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51" name="组合 22"/>
              <p:cNvGrpSpPr/>
              <p:nvPr/>
            </p:nvGrpSpPr>
            <p:grpSpPr>
              <a:xfrm>
                <a:off x="1089720" y="2471040"/>
                <a:ext cx="2521080" cy="1258200"/>
                <a:chOff x="1089720" y="2471040"/>
                <a:chExt cx="2521080" cy="1258200"/>
              </a:xfrm>
            </p:grpSpPr>
            <p:sp>
              <p:nvSpPr>
                <p:cNvPr id="352" name="直接连接符 11"/>
                <p:cNvSpPr/>
                <p:nvPr/>
              </p:nvSpPr>
              <p:spPr>
                <a:xfrm>
                  <a:off x="2159280" y="2998440"/>
                  <a:ext cx="145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3" name="弧形 12"/>
                <p:cNvSpPr/>
                <p:nvPr/>
              </p:nvSpPr>
              <p:spPr>
                <a:xfrm rot="4684800">
                  <a:off x="1148400" y="2603520"/>
                  <a:ext cx="1076400" cy="992520"/>
                </a:xfrm>
                <a:custGeom>
                  <a:avLst/>
                  <a:gdLst/>
                  <a:ahLst/>
                  <a:rect l="l" t="t" r="r" b="b"/>
                  <a:pathLst>
                    <a:path stroke="0" w="1076305" h="992396">
                      <a:moveTo>
                        <a:pt x="538152" y="0"/>
                      </a:moveTo>
                      <a:cubicBezTo>
                        <a:pt x="733811" y="0"/>
                        <a:pt x="914054" y="97915"/>
                        <a:pt x="1008880" y="255717"/>
                      </a:cubicBezTo>
                      <a:lnTo>
                        <a:pt x="538153" y="496198"/>
                      </a:lnTo>
                      <a:cubicBezTo>
                        <a:pt x="538153" y="330799"/>
                        <a:pt x="538152" y="165399"/>
                        <a:pt x="538152" y="0"/>
                      </a:cubicBezTo>
                      <a:close/>
                    </a:path>
                    <a:path fill="none" w="1076305" h="992396">
                      <a:moveTo>
                        <a:pt x="538152" y="0"/>
                      </a:moveTo>
                      <a:cubicBezTo>
                        <a:pt x="733811" y="0"/>
                        <a:pt x="914054" y="97915"/>
                        <a:pt x="1008880" y="25571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54" name="矩形 30"/>
            <p:cNvSpPr/>
            <p:nvPr/>
          </p:nvSpPr>
          <p:spPr>
            <a:xfrm>
              <a:off x="3624120" y="4051800"/>
              <a:ext cx="112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31"/>
            <p:cNvSpPr/>
            <p:nvPr/>
          </p:nvSpPr>
          <p:spPr>
            <a:xfrm>
              <a:off x="5035320" y="2788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改正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矩形 17"/>
          <p:cNvSpPr/>
          <p:nvPr/>
        </p:nvSpPr>
        <p:spPr>
          <a:xfrm>
            <a:off x="2266920" y="4894200"/>
            <a:ext cx="46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商与除数的积比被除数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18"/>
          <p:cNvSpPr/>
          <p:nvPr/>
        </p:nvSpPr>
        <p:spPr>
          <a:xfrm>
            <a:off x="3965400" y="407988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组合 19"/>
          <p:cNvGrpSpPr/>
          <p:nvPr/>
        </p:nvGrpSpPr>
        <p:grpSpPr>
          <a:xfrm>
            <a:off x="5300280" y="2481120"/>
            <a:ext cx="3245400" cy="3385800"/>
            <a:chOff x="5300280" y="2481120"/>
            <a:chExt cx="3245400" cy="3385800"/>
          </a:xfrm>
        </p:grpSpPr>
        <p:grpSp>
          <p:nvGrpSpPr>
            <p:cNvPr id="359" name="组合 3"/>
            <p:cNvGrpSpPr/>
            <p:nvPr/>
          </p:nvGrpSpPr>
          <p:grpSpPr>
            <a:xfrm>
              <a:off x="5783040" y="2481120"/>
              <a:ext cx="2762640" cy="3385800"/>
              <a:chOff x="5783040" y="2481120"/>
              <a:chExt cx="2762640" cy="3385800"/>
            </a:xfrm>
          </p:grpSpPr>
          <p:sp>
            <p:nvSpPr>
              <p:cNvPr id="360" name="矩形 13"/>
              <p:cNvSpPr/>
              <p:nvPr/>
            </p:nvSpPr>
            <p:spPr>
              <a:xfrm>
                <a:off x="5783040" y="312804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1" name="组合 1"/>
              <p:cNvGrpSpPr/>
              <p:nvPr/>
            </p:nvGrpSpPr>
            <p:grpSpPr>
              <a:xfrm>
                <a:off x="6290640" y="2481120"/>
                <a:ext cx="2255040" cy="3385800"/>
                <a:chOff x="6290640" y="2481120"/>
                <a:chExt cx="2255040" cy="3385800"/>
              </a:xfrm>
            </p:grpSpPr>
            <p:sp>
              <p:nvSpPr>
                <p:cNvPr id="362" name="TextBox 15"/>
                <p:cNvSpPr/>
                <p:nvPr/>
              </p:nvSpPr>
              <p:spPr>
                <a:xfrm>
                  <a:off x="6312960" y="248112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6  3  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  6  0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  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直接连接符 27"/>
                <p:cNvSpPr/>
                <p:nvPr/>
              </p:nvSpPr>
              <p:spPr>
                <a:xfrm>
                  <a:off x="6290640" y="4154400"/>
                  <a:ext cx="15897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4" name="组合 16"/>
            <p:cNvGrpSpPr/>
            <p:nvPr/>
          </p:nvGrpSpPr>
          <p:grpSpPr>
            <a:xfrm>
              <a:off x="5300280" y="2547360"/>
              <a:ext cx="2520000" cy="1258560"/>
              <a:chOff x="5300280" y="2547360"/>
              <a:chExt cx="2520000" cy="1258560"/>
            </a:xfrm>
          </p:grpSpPr>
          <p:sp>
            <p:nvSpPr>
              <p:cNvPr id="365" name="直接连接符 22"/>
              <p:cNvSpPr/>
              <p:nvPr/>
            </p:nvSpPr>
            <p:spPr>
              <a:xfrm>
                <a:off x="6369120" y="3074760"/>
                <a:ext cx="14511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弧形 23"/>
              <p:cNvSpPr/>
              <p:nvPr/>
            </p:nvSpPr>
            <p:spPr>
              <a:xfrm rot="4684800">
                <a:off x="5358600" y="268020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325" h="992592">
                    <a:moveTo>
                      <a:pt x="538162" y="0"/>
                    </a:moveTo>
                    <a:cubicBezTo>
                      <a:pt x="733839" y="0"/>
                      <a:pt x="914097" y="97949"/>
                      <a:pt x="1008918" y="255800"/>
                    </a:cubicBezTo>
                    <a:lnTo>
                      <a:pt x="538163" y="496296"/>
                    </a:lnTo>
                    <a:cubicBezTo>
                      <a:pt x="538163" y="330864"/>
                      <a:pt x="538162" y="165432"/>
                      <a:pt x="538162" y="0"/>
                    </a:cubicBezTo>
                    <a:close/>
                  </a:path>
                  <a:path fill="none" w="1076325" h="992592">
                    <a:moveTo>
                      <a:pt x="538162" y="0"/>
                    </a:moveTo>
                    <a:cubicBezTo>
                      <a:pt x="733839" y="0"/>
                      <a:pt x="914097" y="97949"/>
                      <a:pt x="1008918" y="2558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274920" y="2413080"/>
            <a:ext cx="25732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矩形 1"/>
          <p:cNvSpPr/>
          <p:nvPr/>
        </p:nvSpPr>
        <p:spPr>
          <a:xfrm>
            <a:off x="1320840" y="1469880"/>
            <a:ext cx="65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老师带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，可以买几个足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7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73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2"/>
          <p:cNvGrpSpPr/>
          <p:nvPr/>
        </p:nvGrpSpPr>
        <p:grpSpPr>
          <a:xfrm>
            <a:off x="879480" y="1879560"/>
            <a:ext cx="8026560" cy="1008360"/>
            <a:chOff x="879480" y="1879560"/>
            <a:chExt cx="8026560" cy="1008360"/>
          </a:xfrm>
        </p:grpSpPr>
        <p:pic>
          <p:nvPicPr>
            <p:cNvPr id="85" name="图片 34" descr="QQ截图20170213223835.png"/>
            <p:cNvPicPr/>
            <p:nvPr/>
          </p:nvPicPr>
          <p:blipFill>
            <a:blip r:embed="rId1"/>
            <a:stretch/>
          </p:blipFill>
          <p:spPr>
            <a:xfrm>
              <a:off x="879480" y="1879560"/>
              <a:ext cx="6872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35"/>
            <p:cNvSpPr/>
            <p:nvPr/>
          </p:nvSpPr>
          <p:spPr>
            <a:xfrm>
              <a:off x="1431720" y="1879560"/>
              <a:ext cx="74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alibri"/>
                </a:rPr>
                <a:t>红星小学师生去参观航天博物馆。博物馆规定，每批参观的 人数不得超过</a:t>
              </a:r>
              <a:r>
                <a:rPr b="1" lang="zh-TW" sz="2400" spc="-1" strike="noStrike">
                  <a:solidFill>
                    <a:srgbClr val="000000"/>
                  </a:solidFill>
                  <a:latin typeface="Calibri"/>
                </a:rPr>
                <a:t>60</a:t>
              </a:r>
              <a:r>
                <a:rPr b="1" lang="zh-TW" sz="2400" spc="-1" strike="noStrike">
                  <a:solidFill>
                    <a:srgbClr val="000000"/>
                  </a:solidFill>
                  <a:latin typeface="Calibri"/>
                </a:rPr>
                <a:t>人。全校师生至少要分几批参观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1"/>
          <p:cNvGrpSpPr/>
          <p:nvPr/>
        </p:nvGrpSpPr>
        <p:grpSpPr>
          <a:xfrm>
            <a:off x="479520" y="1000080"/>
            <a:ext cx="7619760" cy="666720"/>
            <a:chOff x="479520" y="1000080"/>
            <a:chExt cx="7619760" cy="666720"/>
          </a:xfrm>
        </p:grpSpPr>
        <p:sp>
          <p:nvSpPr>
            <p:cNvPr id="88" name="文本框 13"/>
            <p:cNvSpPr/>
            <p:nvPr/>
          </p:nvSpPr>
          <p:spPr>
            <a:xfrm>
              <a:off x="1638000" y="1071360"/>
              <a:ext cx="64612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三位数除以整十数的笔算方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0" name=""/>
          <p:cNvGraphicFramePr/>
          <p:nvPr/>
        </p:nvGraphicFramePr>
        <p:xfrm>
          <a:off x="1932120" y="3681360"/>
          <a:ext cx="2271600" cy="1371600"/>
        </p:xfrm>
        <a:graphic>
          <a:graphicData uri="http://schemas.openxmlformats.org/drawingml/2006/table">
            <a:tbl>
              <a:tblPr/>
              <a:tblGrid>
                <a:gridCol w="1116000"/>
                <a:gridCol w="11556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学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教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" name="组合 2"/>
          <p:cNvGrpSpPr/>
          <p:nvPr/>
        </p:nvGrpSpPr>
        <p:grpSpPr>
          <a:xfrm>
            <a:off x="5264280" y="3409920"/>
            <a:ext cx="3641760" cy="1684440"/>
            <a:chOff x="5264280" y="3409920"/>
            <a:chExt cx="3641760" cy="1684440"/>
          </a:xfrm>
        </p:grpSpPr>
        <p:pic>
          <p:nvPicPr>
            <p:cNvPr id="92" name="Picture 11" descr=""/>
            <p:cNvPicPr/>
            <p:nvPr/>
          </p:nvPicPr>
          <p:blipFill>
            <a:blip r:embed="rId3"/>
            <a:stretch/>
          </p:blipFill>
          <p:spPr>
            <a:xfrm>
              <a:off x="5264280" y="3409920"/>
              <a:ext cx="23144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2" descr=""/>
            <p:cNvPicPr/>
            <p:nvPr/>
          </p:nvPicPr>
          <p:blipFill>
            <a:blip r:embed="rId4"/>
            <a:stretch/>
          </p:blipFill>
          <p:spPr>
            <a:xfrm>
              <a:off x="7590600" y="3534480"/>
              <a:ext cx="1315440" cy="155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001880" y="1100160"/>
            <a:ext cx="3105000" cy="136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2"/>
          <a:stretch/>
        </p:blipFill>
        <p:spPr>
          <a:xfrm>
            <a:off x="4929120" y="1187280"/>
            <a:ext cx="3438720" cy="11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3"/>
          <a:stretch/>
        </p:blipFill>
        <p:spPr>
          <a:xfrm>
            <a:off x="1355760" y="2519280"/>
            <a:ext cx="2847960" cy="1038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4637160" y="2589120"/>
            <a:ext cx="367668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00" name="组合 26"/>
          <p:cNvGrpSpPr/>
          <p:nvPr/>
        </p:nvGrpSpPr>
        <p:grpSpPr>
          <a:xfrm>
            <a:off x="4842000" y="3567240"/>
            <a:ext cx="3471840" cy="1409400"/>
            <a:chOff x="4842000" y="3567240"/>
            <a:chExt cx="3471840" cy="1409400"/>
          </a:xfrm>
        </p:grpSpPr>
        <p:pic>
          <p:nvPicPr>
            <p:cNvPr id="101" name="Picture 14" descr=""/>
            <p:cNvPicPr/>
            <p:nvPr/>
          </p:nvPicPr>
          <p:blipFill>
            <a:blip r:embed="rId5"/>
            <a:stretch/>
          </p:blipFill>
          <p:spPr>
            <a:xfrm>
              <a:off x="4842000" y="3567240"/>
              <a:ext cx="243684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"/>
            <p:cNvPicPr/>
            <p:nvPr/>
          </p:nvPicPr>
          <p:blipFill>
            <a:blip r:embed="rId6"/>
            <a:stretch/>
          </p:blipFill>
          <p:spPr>
            <a:xfrm>
              <a:off x="7360200" y="3891600"/>
              <a:ext cx="953640" cy="108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矩形 25"/>
          <p:cNvSpPr/>
          <p:nvPr/>
        </p:nvSpPr>
        <p:spPr>
          <a:xfrm>
            <a:off x="1367640" y="5397480"/>
            <a:ext cx="39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3÷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批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····· 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6" descr=""/>
          <p:cNvPicPr/>
          <p:nvPr/>
        </p:nvPicPr>
        <p:blipFill>
          <a:blip r:embed="rId7"/>
          <a:stretch/>
        </p:blipFill>
        <p:spPr>
          <a:xfrm>
            <a:off x="4578480" y="4933800"/>
            <a:ext cx="3657600" cy="109548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5"/>
          <p:cNvGrpSpPr/>
          <p:nvPr/>
        </p:nvGrpSpPr>
        <p:grpSpPr>
          <a:xfrm>
            <a:off x="2462040" y="3557520"/>
            <a:ext cx="1866960" cy="1923480"/>
            <a:chOff x="2462040" y="3557520"/>
            <a:chExt cx="1866960" cy="1923480"/>
          </a:xfrm>
        </p:grpSpPr>
        <p:grpSp>
          <p:nvGrpSpPr>
            <p:cNvPr id="106" name="组合 29"/>
            <p:cNvGrpSpPr/>
            <p:nvPr/>
          </p:nvGrpSpPr>
          <p:grpSpPr>
            <a:xfrm>
              <a:off x="2779560" y="3557520"/>
              <a:ext cx="1549440" cy="1923480"/>
              <a:chOff x="2779560" y="3557520"/>
              <a:chExt cx="1549440" cy="1923480"/>
            </a:xfrm>
          </p:grpSpPr>
          <p:sp>
            <p:nvSpPr>
              <p:cNvPr id="107" name="矩形 17"/>
              <p:cNvSpPr/>
              <p:nvPr/>
            </p:nvSpPr>
            <p:spPr>
              <a:xfrm>
                <a:off x="3626640" y="3557520"/>
                <a:ext cx="63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8" name="组合 28"/>
              <p:cNvGrpSpPr/>
              <p:nvPr/>
            </p:nvGrpSpPr>
            <p:grpSpPr>
              <a:xfrm>
                <a:off x="2779560" y="4042440"/>
                <a:ext cx="1549440" cy="1438560"/>
                <a:chOff x="2779560" y="4042440"/>
                <a:chExt cx="1549440" cy="1438560"/>
              </a:xfrm>
            </p:grpSpPr>
            <p:grpSp>
              <p:nvGrpSpPr>
                <p:cNvPr id="109" name="组合 27"/>
                <p:cNvGrpSpPr/>
                <p:nvPr/>
              </p:nvGrpSpPr>
              <p:grpSpPr>
                <a:xfrm>
                  <a:off x="2779560" y="4042440"/>
                  <a:ext cx="1549440" cy="920880"/>
                  <a:chOff x="2779560" y="4042440"/>
                  <a:chExt cx="1549440" cy="920880"/>
                </a:xfrm>
              </p:grpSpPr>
              <p:sp>
                <p:nvSpPr>
                  <p:cNvPr id="110" name="矩形 9"/>
                  <p:cNvSpPr/>
                  <p:nvPr/>
                </p:nvSpPr>
                <p:spPr>
                  <a:xfrm>
                    <a:off x="3318120" y="4131000"/>
                    <a:ext cx="101088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  2  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  8 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直接连接符 11"/>
                  <p:cNvSpPr/>
                  <p:nvPr/>
                </p:nvSpPr>
                <p:spPr>
                  <a:xfrm>
                    <a:off x="3369960" y="4159800"/>
                    <a:ext cx="793800" cy="0"/>
                  </a:xfrm>
                  <a:prstGeom prst="line">
                    <a:avLst/>
                  </a:prstGeom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矩形 15"/>
                  <p:cNvSpPr/>
                  <p:nvPr/>
                </p:nvSpPr>
                <p:spPr>
                  <a:xfrm>
                    <a:off x="2779560" y="4042440"/>
                    <a:ext cx="656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" name="直接连接符 21"/>
                  <p:cNvSpPr/>
                  <p:nvPr/>
                </p:nvSpPr>
                <p:spPr>
                  <a:xfrm>
                    <a:off x="3362040" y="4963320"/>
                    <a:ext cx="801720" cy="0"/>
                  </a:xfrm>
                  <a:prstGeom prst="line">
                    <a:avLst/>
                  </a:prstGeom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4" name="矩形 24"/>
                <p:cNvSpPr/>
                <p:nvPr/>
              </p:nvSpPr>
              <p:spPr>
                <a:xfrm>
                  <a:off x="3578040" y="4838400"/>
                  <a:ext cx="71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  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5" name="弧形 1"/>
            <p:cNvSpPr/>
            <p:nvPr/>
          </p:nvSpPr>
          <p:spPr>
            <a:xfrm rot="5400000">
              <a:off x="2462040" y="3695400"/>
              <a:ext cx="914400" cy="914400"/>
            </a:xfrm>
            <a:custGeom>
              <a:avLst/>
              <a:gdLst/>
              <a:ahLst/>
              <a:rect l="l" t="t" r="r" b="b"/>
              <a:pathLst>
                <a:path stroke="0" w="914245" h="914400">
                  <a:moveTo>
                    <a:pt x="457122" y="0"/>
                  </a:moveTo>
                  <a:cubicBezTo>
                    <a:pt x="606106" y="0"/>
                    <a:pt x="745743" y="72615"/>
                    <a:pt x="831317" y="194592"/>
                  </a:cubicBezTo>
                  <a:lnTo>
                    <a:pt x="457123" y="457200"/>
                  </a:lnTo>
                  <a:cubicBezTo>
                    <a:pt x="457123" y="304800"/>
                    <a:pt x="457122" y="152400"/>
                    <a:pt x="457122" y="0"/>
                  </a:cubicBezTo>
                  <a:close/>
                </a:path>
                <a:path fill="none" w="914245" h="914400">
                  <a:moveTo>
                    <a:pt x="457122" y="0"/>
                  </a:moveTo>
                  <a:cubicBezTo>
                    <a:pt x="606106" y="0"/>
                    <a:pt x="745743" y="72615"/>
                    <a:pt x="831317" y="194592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14"/>
          <p:cNvGrpSpPr/>
          <p:nvPr/>
        </p:nvGrpSpPr>
        <p:grpSpPr>
          <a:xfrm>
            <a:off x="1123920" y="1481040"/>
            <a:ext cx="3044880" cy="1449360"/>
            <a:chOff x="1123920" y="1481040"/>
            <a:chExt cx="3044880" cy="1449360"/>
          </a:xfrm>
        </p:grpSpPr>
        <p:pic>
          <p:nvPicPr>
            <p:cNvPr id="119" name="Picture 2" descr=""/>
            <p:cNvPicPr/>
            <p:nvPr/>
          </p:nvPicPr>
          <p:blipFill>
            <a:blip r:embed="rId1"/>
            <a:stretch/>
          </p:blipFill>
          <p:spPr>
            <a:xfrm>
              <a:off x="1123920" y="1677240"/>
              <a:ext cx="1130400" cy="12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"/>
            <p:cNvPicPr/>
            <p:nvPr/>
          </p:nvPicPr>
          <p:blipFill>
            <a:blip r:embed="rId2"/>
            <a:stretch/>
          </p:blipFill>
          <p:spPr>
            <a:xfrm>
              <a:off x="2363400" y="1481040"/>
              <a:ext cx="1805400" cy="82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518080" y="2109960"/>
            <a:ext cx="2649600" cy="1349280"/>
          </a:xfrm>
          <a:prstGeom prst="rect">
            <a:avLst/>
          </a:prstGeom>
          <a:ln w="0">
            <a:noFill/>
          </a:ln>
        </p:spPr>
      </p:pic>
      <p:sp>
        <p:nvSpPr>
          <p:cNvPr id="122" name="矩形 1"/>
          <p:cNvSpPr/>
          <p:nvPr/>
        </p:nvSpPr>
        <p:spPr>
          <a:xfrm>
            <a:off x="2286000" y="28288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×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3"/>
          <p:cNvGrpSpPr/>
          <p:nvPr/>
        </p:nvGrpSpPr>
        <p:grpSpPr>
          <a:xfrm>
            <a:off x="4329000" y="2784600"/>
            <a:ext cx="4572000" cy="1333080"/>
            <a:chOff x="4329000" y="2784600"/>
            <a:chExt cx="4572000" cy="1333080"/>
          </a:xfrm>
        </p:grpSpPr>
        <p:sp>
          <p:nvSpPr>
            <p:cNvPr id="124" name="直接连接符 5"/>
            <p:cNvSpPr/>
            <p:nvPr/>
          </p:nvSpPr>
          <p:spPr>
            <a:xfrm flipV="1">
              <a:off x="4428720" y="3664080"/>
              <a:ext cx="1089000" cy="9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组合 10"/>
            <p:cNvGrpSpPr/>
            <p:nvPr/>
          </p:nvGrpSpPr>
          <p:grpSpPr>
            <a:xfrm>
              <a:off x="4329000" y="2784600"/>
              <a:ext cx="4572000" cy="1333080"/>
              <a:chOff x="4329000" y="2784600"/>
              <a:chExt cx="4572000" cy="1333080"/>
            </a:xfrm>
          </p:grpSpPr>
          <p:sp>
            <p:nvSpPr>
              <p:cNvPr id="126" name="矩形 3"/>
              <p:cNvSpPr/>
              <p:nvPr/>
            </p:nvSpPr>
            <p:spPr>
              <a:xfrm>
                <a:off x="4329000" y="278460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 8  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 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矩形 8"/>
              <p:cNvSpPr/>
              <p:nvPr/>
            </p:nvSpPr>
            <p:spPr>
              <a:xfrm>
                <a:off x="4636080" y="3475080"/>
                <a:ext cx="111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 2  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8" name="矩形 12"/>
          <p:cNvSpPr/>
          <p:nvPr/>
        </p:nvSpPr>
        <p:spPr>
          <a:xfrm>
            <a:off x="2363760" y="456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全校师生至少要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批参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3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134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8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18" descr="QQ截图20170213230834.png"/>
            <p:cNvPicPr/>
            <p:nvPr/>
          </p:nvPicPr>
          <p:blipFill>
            <a:blip r:embed="rId4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20"/>
          <p:cNvSpPr/>
          <p:nvPr/>
        </p:nvSpPr>
        <p:spPr>
          <a:xfrm>
            <a:off x="1498680" y="2676600"/>
            <a:ext cx="66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校师生参加植树劳动，如果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分成一组，最多够分 成几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938840" y="299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1"/>
          <p:cNvGrpSpPr/>
          <p:nvPr/>
        </p:nvGrpSpPr>
        <p:grpSpPr>
          <a:xfrm>
            <a:off x="700560" y="1959120"/>
            <a:ext cx="7476480" cy="3385800"/>
            <a:chOff x="700560" y="1959120"/>
            <a:chExt cx="7476480" cy="3385800"/>
          </a:xfrm>
        </p:grpSpPr>
        <p:sp>
          <p:nvSpPr>
            <p:cNvPr id="143" name="TextBox 36"/>
            <p:cNvSpPr/>
            <p:nvPr/>
          </p:nvSpPr>
          <p:spPr>
            <a:xfrm>
              <a:off x="961920" y="1959120"/>
              <a:ext cx="7215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填一填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想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里面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所以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要写在被除数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位上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想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2≈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÷3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2÷30≈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所以商应该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余数要比除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组合 15"/>
            <p:cNvGrpSpPr/>
            <p:nvPr/>
          </p:nvGrpSpPr>
          <p:grpSpPr>
            <a:xfrm>
              <a:off x="700560" y="1969920"/>
              <a:ext cx="3287160" cy="1419840"/>
              <a:chOff x="700560" y="1969920"/>
              <a:chExt cx="3287160" cy="1419840"/>
            </a:xfrm>
          </p:grpSpPr>
          <p:grpSp>
            <p:nvGrpSpPr>
              <p:cNvPr id="145" name="组合 29"/>
              <p:cNvGrpSpPr/>
              <p:nvPr/>
            </p:nvGrpSpPr>
            <p:grpSpPr>
              <a:xfrm>
                <a:off x="700560" y="2130120"/>
                <a:ext cx="1800360" cy="1259640"/>
                <a:chOff x="700560" y="2130120"/>
                <a:chExt cx="1800360" cy="1259640"/>
              </a:xfrm>
            </p:grpSpPr>
            <p:sp>
              <p:nvSpPr>
                <p:cNvPr id="146" name="直接连接符 23"/>
                <p:cNvSpPr/>
                <p:nvPr/>
              </p:nvSpPr>
              <p:spPr>
                <a:xfrm>
                  <a:off x="1770480" y="2657520"/>
                  <a:ext cx="73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弧形 24"/>
                <p:cNvSpPr/>
                <p:nvPr/>
              </p:nvSpPr>
              <p:spPr>
                <a:xfrm rot="4684800">
                  <a:off x="758520" y="2263320"/>
                  <a:ext cx="1077840" cy="992520"/>
                </a:xfrm>
                <a:custGeom>
                  <a:avLst/>
                  <a:gdLst/>
                  <a:ahLst/>
                  <a:rect l="l" t="t" r="r" b="b"/>
                  <a:pathLst>
                    <a:path stroke="0" w="1077523" h="992812">
                      <a:moveTo>
                        <a:pt x="538761" y="0"/>
                      </a:moveTo>
                      <a:cubicBezTo>
                        <a:pt x="681491" y="0"/>
                        <a:pt x="818388" y="52184"/>
                        <a:pt x="919399" y="145095"/>
                      </a:cubicBezTo>
                      <a:lnTo>
                        <a:pt x="538762" y="496406"/>
                      </a:lnTo>
                      <a:cubicBezTo>
                        <a:pt x="538762" y="330937"/>
                        <a:pt x="538761" y="165469"/>
                        <a:pt x="538761" y="0"/>
                      </a:cubicBezTo>
                      <a:close/>
                    </a:path>
                    <a:path fill="none" w="1077523" h="992812">
                      <a:moveTo>
                        <a:pt x="538761" y="0"/>
                      </a:moveTo>
                      <a:cubicBezTo>
                        <a:pt x="681491" y="0"/>
                        <a:pt x="818388" y="52184"/>
                        <a:pt x="919399" y="14509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8" name="TextBox 15"/>
              <p:cNvSpPr/>
              <p:nvPr/>
            </p:nvSpPr>
            <p:spPr>
              <a:xfrm>
                <a:off x="1757880" y="1969920"/>
                <a:ext cx="22298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36"/>
              <p:cNvSpPr/>
              <p:nvPr/>
            </p:nvSpPr>
            <p:spPr>
              <a:xfrm>
                <a:off x="1169280" y="2657520"/>
                <a:ext cx="7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82440" indent="-82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28"/>
            <p:cNvGrpSpPr/>
            <p:nvPr/>
          </p:nvGrpSpPr>
          <p:grpSpPr>
            <a:xfrm>
              <a:off x="711360" y="3073320"/>
              <a:ext cx="3287160" cy="1421280"/>
              <a:chOff x="711360" y="3073320"/>
              <a:chExt cx="3287160" cy="1421280"/>
            </a:xfrm>
          </p:grpSpPr>
          <p:grpSp>
            <p:nvGrpSpPr>
              <p:cNvPr id="151" name="组合 29"/>
              <p:cNvGrpSpPr/>
              <p:nvPr/>
            </p:nvGrpSpPr>
            <p:grpSpPr>
              <a:xfrm>
                <a:off x="711360" y="3233880"/>
                <a:ext cx="1800360" cy="1260720"/>
                <a:chOff x="711360" y="3233880"/>
                <a:chExt cx="1800360" cy="1260720"/>
              </a:xfrm>
            </p:grpSpPr>
            <p:sp>
              <p:nvSpPr>
                <p:cNvPr id="152" name="直接连接符 32"/>
                <p:cNvSpPr/>
                <p:nvPr/>
              </p:nvSpPr>
              <p:spPr>
                <a:xfrm>
                  <a:off x="1781280" y="3760920"/>
                  <a:ext cx="73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弧形 33"/>
                <p:cNvSpPr/>
                <p:nvPr/>
              </p:nvSpPr>
              <p:spPr>
                <a:xfrm rot="4684800">
                  <a:off x="768960" y="3367800"/>
                  <a:ext cx="1078920" cy="992520"/>
                </a:xfrm>
                <a:custGeom>
                  <a:avLst/>
                  <a:gdLst/>
                  <a:ahLst/>
                  <a:rect l="l" t="t" r="r" b="b"/>
                  <a:pathLst>
                    <a:path stroke="0" w="1077823" h="992812">
                      <a:moveTo>
                        <a:pt x="538911" y="0"/>
                      </a:moveTo>
                      <a:cubicBezTo>
                        <a:pt x="667055" y="0"/>
                        <a:pt x="791006" y="42061"/>
                        <a:pt x="888525" y="118636"/>
                      </a:cubicBezTo>
                      <a:lnTo>
                        <a:pt x="538912" y="496406"/>
                      </a:lnTo>
                      <a:cubicBezTo>
                        <a:pt x="538912" y="330937"/>
                        <a:pt x="538911" y="165469"/>
                        <a:pt x="538911" y="0"/>
                      </a:cubicBezTo>
                      <a:close/>
                    </a:path>
                    <a:path fill="none" w="1077823" h="992812">
                      <a:moveTo>
                        <a:pt x="538911" y="0"/>
                      </a:moveTo>
                      <a:cubicBezTo>
                        <a:pt x="667055" y="0"/>
                        <a:pt x="791006" y="42061"/>
                        <a:pt x="888525" y="11863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4" name="TextBox 15"/>
              <p:cNvSpPr/>
              <p:nvPr/>
            </p:nvSpPr>
            <p:spPr>
              <a:xfrm>
                <a:off x="1768680" y="3073320"/>
                <a:ext cx="22298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矩形 36"/>
              <p:cNvSpPr/>
              <p:nvPr/>
            </p:nvSpPr>
            <p:spPr>
              <a:xfrm>
                <a:off x="1262520" y="376164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6" name="矩形 16"/>
          <p:cNvSpPr/>
          <p:nvPr/>
        </p:nvSpPr>
        <p:spPr>
          <a:xfrm>
            <a:off x="4941360" y="265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6"/>
          <p:cNvSpPr/>
          <p:nvPr/>
        </p:nvSpPr>
        <p:spPr>
          <a:xfrm>
            <a:off x="7589160" y="26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7"/>
          <p:cNvSpPr/>
          <p:nvPr/>
        </p:nvSpPr>
        <p:spPr>
          <a:xfrm>
            <a:off x="3794040" y="318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8"/>
          <p:cNvSpPr/>
          <p:nvPr/>
        </p:nvSpPr>
        <p:spPr>
          <a:xfrm>
            <a:off x="4156200" y="37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9"/>
          <p:cNvSpPr/>
          <p:nvPr/>
        </p:nvSpPr>
        <p:spPr>
          <a:xfrm>
            <a:off x="6544440" y="3724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40"/>
          <p:cNvSpPr/>
          <p:nvPr/>
        </p:nvSpPr>
        <p:spPr>
          <a:xfrm>
            <a:off x="2757600" y="427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41"/>
          <p:cNvSpPr/>
          <p:nvPr/>
        </p:nvSpPr>
        <p:spPr>
          <a:xfrm>
            <a:off x="5709600" y="427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5"/>
          <p:cNvSpPr/>
          <p:nvPr/>
        </p:nvSpPr>
        <p:spPr>
          <a:xfrm>
            <a:off x="2259000" y="484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6"/>
          <p:cNvSpPr/>
          <p:nvPr/>
        </p:nvSpPr>
        <p:spPr>
          <a:xfrm>
            <a:off x="1027080" y="130644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计算下面各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11"/>
          <p:cNvGrpSpPr/>
          <p:nvPr/>
        </p:nvGrpSpPr>
        <p:grpSpPr>
          <a:xfrm>
            <a:off x="1312200" y="1790640"/>
            <a:ext cx="1664280" cy="1259640"/>
            <a:chOff x="1312200" y="1790640"/>
            <a:chExt cx="1664280" cy="1259640"/>
          </a:xfrm>
        </p:grpSpPr>
        <p:grpSp>
          <p:nvGrpSpPr>
            <p:cNvPr id="166" name="组合 10"/>
            <p:cNvGrpSpPr/>
            <p:nvPr/>
          </p:nvGrpSpPr>
          <p:grpSpPr>
            <a:xfrm>
              <a:off x="1312200" y="1790640"/>
              <a:ext cx="1664280" cy="1259640"/>
              <a:chOff x="1312200" y="1790640"/>
              <a:chExt cx="1664280" cy="1259640"/>
            </a:xfrm>
          </p:grpSpPr>
          <p:grpSp>
            <p:nvGrpSpPr>
              <p:cNvPr id="167" name="组合 25"/>
              <p:cNvGrpSpPr/>
              <p:nvPr/>
            </p:nvGrpSpPr>
            <p:grpSpPr>
              <a:xfrm>
                <a:off x="1312200" y="1790640"/>
                <a:ext cx="1664280" cy="1259640"/>
                <a:chOff x="1312200" y="1790640"/>
                <a:chExt cx="1664280" cy="1259640"/>
              </a:xfrm>
            </p:grpSpPr>
            <p:sp>
              <p:nvSpPr>
                <p:cNvPr id="168" name="直接连接符 6"/>
                <p:cNvSpPr/>
                <p:nvPr/>
              </p:nvSpPr>
              <p:spPr>
                <a:xfrm>
                  <a:off x="2381400" y="2317680"/>
                  <a:ext cx="59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弧形 7"/>
                <p:cNvSpPr/>
                <p:nvPr/>
              </p:nvSpPr>
              <p:spPr>
                <a:xfrm rot="4684800">
                  <a:off x="1369800" y="1924200"/>
                  <a:ext cx="1077840" cy="992160"/>
                </a:xfrm>
                <a:custGeom>
                  <a:avLst/>
                  <a:gdLst/>
                  <a:ahLst/>
                  <a:rect l="l" t="t" r="r" b="b"/>
                  <a:pathLst>
                    <a:path stroke="0" w="1077148" h="991432">
                      <a:moveTo>
                        <a:pt x="538574" y="0"/>
                      </a:moveTo>
                      <a:cubicBezTo>
                        <a:pt x="673030" y="0"/>
                        <a:pt x="802624" y="46291"/>
                        <a:pt x="901881" y="129774"/>
                      </a:cubicBezTo>
                      <a:lnTo>
                        <a:pt x="538574" y="495716"/>
                      </a:lnTo>
                      <a:lnTo>
                        <a:pt x="538574" y="0"/>
                      </a:lnTo>
                      <a:close/>
                    </a:path>
                    <a:path fill="none" w="1077148" h="991432">
                      <a:moveTo>
                        <a:pt x="538574" y="0"/>
                      </a:moveTo>
                      <a:cubicBezTo>
                        <a:pt x="673030" y="0"/>
                        <a:pt x="802624" y="46291"/>
                        <a:pt x="901881" y="1297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0" name="TextBox 15"/>
              <p:cNvSpPr/>
              <p:nvPr/>
            </p:nvSpPr>
            <p:spPr>
              <a:xfrm>
                <a:off x="2391840" y="2163600"/>
                <a:ext cx="54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矩形 36"/>
            <p:cNvSpPr/>
            <p:nvPr/>
          </p:nvSpPr>
          <p:spPr>
            <a:xfrm>
              <a:off x="1848240" y="229320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13"/>
          <p:cNvGrpSpPr/>
          <p:nvPr/>
        </p:nvGrpSpPr>
        <p:grpSpPr>
          <a:xfrm>
            <a:off x="5312520" y="1798560"/>
            <a:ext cx="1662840" cy="1259640"/>
            <a:chOff x="5312520" y="1798560"/>
            <a:chExt cx="1662840" cy="1259640"/>
          </a:xfrm>
        </p:grpSpPr>
        <p:grpSp>
          <p:nvGrpSpPr>
            <p:cNvPr id="173" name="组合 14"/>
            <p:cNvGrpSpPr/>
            <p:nvPr/>
          </p:nvGrpSpPr>
          <p:grpSpPr>
            <a:xfrm>
              <a:off x="5312520" y="1798560"/>
              <a:ext cx="1662840" cy="1259640"/>
              <a:chOff x="5312520" y="1798560"/>
              <a:chExt cx="1662840" cy="1259640"/>
            </a:xfrm>
          </p:grpSpPr>
          <p:grpSp>
            <p:nvGrpSpPr>
              <p:cNvPr id="174" name="组合 25"/>
              <p:cNvGrpSpPr/>
              <p:nvPr/>
            </p:nvGrpSpPr>
            <p:grpSpPr>
              <a:xfrm>
                <a:off x="5312520" y="1798560"/>
                <a:ext cx="1662840" cy="1259640"/>
                <a:chOff x="5312520" y="1798560"/>
                <a:chExt cx="1662840" cy="1259640"/>
              </a:xfrm>
            </p:grpSpPr>
            <p:sp>
              <p:nvSpPr>
                <p:cNvPr id="175" name="直接连接符 18"/>
                <p:cNvSpPr/>
                <p:nvPr/>
              </p:nvSpPr>
              <p:spPr>
                <a:xfrm>
                  <a:off x="6381720" y="2325600"/>
                  <a:ext cx="59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弧形 19"/>
                <p:cNvSpPr/>
                <p:nvPr/>
              </p:nvSpPr>
              <p:spPr>
                <a:xfrm rot="4684800">
                  <a:off x="5370120" y="1932120"/>
                  <a:ext cx="1077840" cy="992160"/>
                </a:xfrm>
                <a:custGeom>
                  <a:avLst/>
                  <a:gdLst/>
                  <a:ahLst/>
                  <a:rect l="l" t="t" r="r" b="b"/>
                  <a:pathLst>
                    <a:path stroke="0" w="1077148" h="992440">
                      <a:moveTo>
                        <a:pt x="538574" y="0"/>
                      </a:moveTo>
                      <a:cubicBezTo>
                        <a:pt x="673124" y="0"/>
                        <a:pt x="802802" y="46403"/>
                        <a:pt x="902082" y="130075"/>
                      </a:cubicBezTo>
                      <a:lnTo>
                        <a:pt x="538574" y="496220"/>
                      </a:lnTo>
                      <a:lnTo>
                        <a:pt x="538574" y="0"/>
                      </a:lnTo>
                      <a:close/>
                    </a:path>
                    <a:path fill="none" w="1077148" h="992440">
                      <a:moveTo>
                        <a:pt x="538574" y="0"/>
                      </a:moveTo>
                      <a:cubicBezTo>
                        <a:pt x="673124" y="0"/>
                        <a:pt x="802802" y="46403"/>
                        <a:pt x="902082" y="13007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7" name="TextBox 15"/>
              <p:cNvSpPr/>
              <p:nvPr/>
            </p:nvSpPr>
            <p:spPr>
              <a:xfrm>
                <a:off x="6391080" y="2171520"/>
                <a:ext cx="54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矩形 36"/>
            <p:cNvSpPr/>
            <p:nvPr/>
          </p:nvSpPr>
          <p:spPr>
            <a:xfrm>
              <a:off x="5848200" y="230112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28"/>
          <p:cNvGrpSpPr/>
          <p:nvPr/>
        </p:nvGrpSpPr>
        <p:grpSpPr>
          <a:xfrm>
            <a:off x="1009080" y="2824200"/>
            <a:ext cx="3353400" cy="2288520"/>
            <a:chOff x="1009080" y="2824200"/>
            <a:chExt cx="3353400" cy="2288520"/>
          </a:xfrm>
        </p:grpSpPr>
        <p:grpSp>
          <p:nvGrpSpPr>
            <p:cNvPr id="180" name="组合 3"/>
            <p:cNvGrpSpPr/>
            <p:nvPr/>
          </p:nvGrpSpPr>
          <p:grpSpPr>
            <a:xfrm>
              <a:off x="1492200" y="2824200"/>
              <a:ext cx="2870280" cy="2288520"/>
              <a:chOff x="1492200" y="2824200"/>
              <a:chExt cx="2870280" cy="2288520"/>
            </a:xfrm>
          </p:grpSpPr>
          <p:sp>
            <p:nvSpPr>
              <p:cNvPr id="181" name="矩形 13"/>
              <p:cNvSpPr/>
              <p:nvPr/>
            </p:nvSpPr>
            <p:spPr>
              <a:xfrm>
                <a:off x="1492200" y="344736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2" name="组合 1"/>
              <p:cNvGrpSpPr/>
              <p:nvPr/>
            </p:nvGrpSpPr>
            <p:grpSpPr>
              <a:xfrm>
                <a:off x="2000160" y="2824200"/>
                <a:ext cx="2362320" cy="2288520"/>
                <a:chOff x="2000160" y="2824200"/>
                <a:chExt cx="2362320" cy="2288520"/>
              </a:xfrm>
            </p:grpSpPr>
            <p:sp>
              <p:nvSpPr>
                <p:cNvPr id="183" name="TextBox 15"/>
                <p:cNvSpPr/>
                <p:nvPr/>
              </p:nvSpPr>
              <p:spPr>
                <a:xfrm>
                  <a:off x="2129760" y="2824200"/>
                  <a:ext cx="223272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  0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直接连接符 36"/>
                <p:cNvSpPr/>
                <p:nvPr/>
              </p:nvSpPr>
              <p:spPr>
                <a:xfrm>
                  <a:off x="2000160" y="449748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85" name="组合 16"/>
            <p:cNvGrpSpPr/>
            <p:nvPr/>
          </p:nvGrpSpPr>
          <p:grpSpPr>
            <a:xfrm>
              <a:off x="1009080" y="2890440"/>
              <a:ext cx="2521080" cy="1258560"/>
              <a:chOff x="1009080" y="2890440"/>
              <a:chExt cx="2521080" cy="1258560"/>
            </a:xfrm>
          </p:grpSpPr>
          <p:sp>
            <p:nvSpPr>
              <p:cNvPr id="186" name="直接连接符 31"/>
              <p:cNvSpPr/>
              <p:nvPr/>
            </p:nvSpPr>
            <p:spPr>
              <a:xfrm>
                <a:off x="2077560" y="3417840"/>
                <a:ext cx="1452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弧形 32"/>
              <p:cNvSpPr/>
              <p:nvPr/>
            </p:nvSpPr>
            <p:spPr>
              <a:xfrm rot="4684800">
                <a:off x="1067400" y="302328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372" h="992253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  <a:lnTo>
                      <a:pt x="538186" y="496127"/>
                    </a:lnTo>
                    <a:lnTo>
                      <a:pt x="538186" y="0"/>
                    </a:lnTo>
                    <a:close/>
                  </a:path>
                  <a:path fill="none" w="1076372" h="992253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8" name="组合 38"/>
          <p:cNvGrpSpPr/>
          <p:nvPr/>
        </p:nvGrpSpPr>
        <p:grpSpPr>
          <a:xfrm>
            <a:off x="5111280" y="2832120"/>
            <a:ext cx="3353400" cy="2288520"/>
            <a:chOff x="5111280" y="2832120"/>
            <a:chExt cx="3353400" cy="2288520"/>
          </a:xfrm>
        </p:grpSpPr>
        <p:grpSp>
          <p:nvGrpSpPr>
            <p:cNvPr id="189" name="组合 3"/>
            <p:cNvGrpSpPr/>
            <p:nvPr/>
          </p:nvGrpSpPr>
          <p:grpSpPr>
            <a:xfrm>
              <a:off x="5594400" y="2832120"/>
              <a:ext cx="2870280" cy="2288520"/>
              <a:chOff x="5594400" y="2832120"/>
              <a:chExt cx="2870280" cy="2288520"/>
            </a:xfrm>
          </p:grpSpPr>
          <p:sp>
            <p:nvSpPr>
              <p:cNvPr id="190" name="矩形 13"/>
              <p:cNvSpPr/>
              <p:nvPr/>
            </p:nvSpPr>
            <p:spPr>
              <a:xfrm>
                <a:off x="5594400" y="345528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1" name="组合 1"/>
              <p:cNvGrpSpPr/>
              <p:nvPr/>
            </p:nvGrpSpPr>
            <p:grpSpPr>
              <a:xfrm>
                <a:off x="6102360" y="2832120"/>
                <a:ext cx="2362320" cy="2288520"/>
                <a:chOff x="6102360" y="2832120"/>
                <a:chExt cx="2362320" cy="2288520"/>
              </a:xfrm>
            </p:grpSpPr>
            <p:sp>
              <p:nvSpPr>
                <p:cNvPr id="192" name="TextBox 15"/>
                <p:cNvSpPr/>
                <p:nvPr/>
              </p:nvSpPr>
              <p:spPr>
                <a:xfrm>
                  <a:off x="6231960" y="2832120"/>
                  <a:ext cx="223272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  0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46"/>
                <p:cNvSpPr/>
                <p:nvPr/>
              </p:nvSpPr>
              <p:spPr>
                <a:xfrm>
                  <a:off x="6102360" y="450540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4" name="组合 16"/>
            <p:cNvGrpSpPr/>
            <p:nvPr/>
          </p:nvGrpSpPr>
          <p:grpSpPr>
            <a:xfrm>
              <a:off x="5111280" y="2898360"/>
              <a:ext cx="2521080" cy="1258560"/>
              <a:chOff x="5111280" y="2898360"/>
              <a:chExt cx="2521080" cy="1258560"/>
            </a:xfrm>
          </p:grpSpPr>
          <p:sp>
            <p:nvSpPr>
              <p:cNvPr id="195" name="直接连接符 41"/>
              <p:cNvSpPr/>
              <p:nvPr/>
            </p:nvSpPr>
            <p:spPr>
              <a:xfrm>
                <a:off x="6179760" y="3425760"/>
                <a:ext cx="1452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弧形 42"/>
              <p:cNvSpPr/>
              <p:nvPr/>
            </p:nvSpPr>
            <p:spPr>
              <a:xfrm rot="4684800">
                <a:off x="5169600" y="303120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372" h="992253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  <a:lnTo>
                      <a:pt x="538186" y="496127"/>
                    </a:lnTo>
                    <a:lnTo>
                      <a:pt x="538186" y="0"/>
                    </a:lnTo>
                    <a:close/>
                  </a:path>
                  <a:path fill="none" w="1076372" h="992253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2"/>
          <p:cNvGrpSpPr/>
          <p:nvPr/>
        </p:nvGrpSpPr>
        <p:grpSpPr>
          <a:xfrm>
            <a:off x="1247040" y="1771560"/>
            <a:ext cx="1662840" cy="1259640"/>
            <a:chOff x="1247040" y="1771560"/>
            <a:chExt cx="1662840" cy="1259640"/>
          </a:xfrm>
        </p:grpSpPr>
        <p:grpSp>
          <p:nvGrpSpPr>
            <p:cNvPr id="198" name="组合 3"/>
            <p:cNvGrpSpPr/>
            <p:nvPr/>
          </p:nvGrpSpPr>
          <p:grpSpPr>
            <a:xfrm>
              <a:off x="1247040" y="1771560"/>
              <a:ext cx="1662840" cy="1259640"/>
              <a:chOff x="1247040" y="1771560"/>
              <a:chExt cx="1662840" cy="1259640"/>
            </a:xfrm>
          </p:grpSpPr>
          <p:grpSp>
            <p:nvGrpSpPr>
              <p:cNvPr id="199" name="组合 25"/>
              <p:cNvGrpSpPr/>
              <p:nvPr/>
            </p:nvGrpSpPr>
            <p:grpSpPr>
              <a:xfrm>
                <a:off x="1247040" y="1771560"/>
                <a:ext cx="1662840" cy="1259640"/>
                <a:chOff x="1247040" y="1771560"/>
                <a:chExt cx="1662840" cy="1259640"/>
              </a:xfrm>
            </p:grpSpPr>
            <p:sp>
              <p:nvSpPr>
                <p:cNvPr id="200" name="直接连接符 7"/>
                <p:cNvSpPr/>
                <p:nvPr/>
              </p:nvSpPr>
              <p:spPr>
                <a:xfrm>
                  <a:off x="2316240" y="2298600"/>
                  <a:ext cx="59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" name="弧形 8"/>
                <p:cNvSpPr/>
                <p:nvPr/>
              </p:nvSpPr>
              <p:spPr>
                <a:xfrm rot="4684800">
                  <a:off x="1304640" y="1905120"/>
                  <a:ext cx="1077840" cy="992160"/>
                </a:xfrm>
                <a:custGeom>
                  <a:avLst/>
                  <a:gdLst/>
                  <a:ahLst/>
                  <a:rect l="l" t="t" r="r" b="b"/>
                  <a:pathLst>
                    <a:path stroke="0" w="1077148" h="992439">
                      <a:moveTo>
                        <a:pt x="538574" y="0"/>
                      </a:moveTo>
                      <a:cubicBezTo>
                        <a:pt x="673124" y="0"/>
                        <a:pt x="802802" y="46403"/>
                        <a:pt x="902082" y="130075"/>
                      </a:cubicBezTo>
                      <a:lnTo>
                        <a:pt x="538574" y="496220"/>
                      </a:lnTo>
                      <a:lnTo>
                        <a:pt x="538574" y="0"/>
                      </a:lnTo>
                      <a:close/>
                    </a:path>
                    <a:path fill="none" w="1077148" h="992439">
                      <a:moveTo>
                        <a:pt x="538574" y="0"/>
                      </a:moveTo>
                      <a:cubicBezTo>
                        <a:pt x="673124" y="0"/>
                        <a:pt x="802802" y="46403"/>
                        <a:pt x="902082" y="13007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2" name="TextBox 15"/>
              <p:cNvSpPr/>
              <p:nvPr/>
            </p:nvSpPr>
            <p:spPr>
              <a:xfrm>
                <a:off x="2325600" y="2144520"/>
                <a:ext cx="54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矩形 36"/>
            <p:cNvSpPr/>
            <p:nvPr/>
          </p:nvSpPr>
          <p:spPr>
            <a:xfrm>
              <a:off x="1782720" y="227412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9"/>
          <p:cNvGrpSpPr/>
          <p:nvPr/>
        </p:nvGrpSpPr>
        <p:grpSpPr>
          <a:xfrm>
            <a:off x="5320440" y="1771560"/>
            <a:ext cx="1664640" cy="1259640"/>
            <a:chOff x="5320440" y="1771560"/>
            <a:chExt cx="1664640" cy="1259640"/>
          </a:xfrm>
        </p:grpSpPr>
        <p:grpSp>
          <p:nvGrpSpPr>
            <p:cNvPr id="205" name="组合 10"/>
            <p:cNvGrpSpPr/>
            <p:nvPr/>
          </p:nvGrpSpPr>
          <p:grpSpPr>
            <a:xfrm>
              <a:off x="5320440" y="1771560"/>
              <a:ext cx="1664640" cy="1259640"/>
              <a:chOff x="5320440" y="1771560"/>
              <a:chExt cx="1664640" cy="1259640"/>
            </a:xfrm>
          </p:grpSpPr>
          <p:grpSp>
            <p:nvGrpSpPr>
              <p:cNvPr id="206" name="组合 25"/>
              <p:cNvGrpSpPr/>
              <p:nvPr/>
            </p:nvGrpSpPr>
            <p:grpSpPr>
              <a:xfrm>
                <a:off x="5320440" y="1771560"/>
                <a:ext cx="1664640" cy="1259640"/>
                <a:chOff x="5320440" y="1771560"/>
                <a:chExt cx="1664640" cy="1259640"/>
              </a:xfrm>
            </p:grpSpPr>
            <p:sp>
              <p:nvSpPr>
                <p:cNvPr id="207" name="直接连接符 14"/>
                <p:cNvSpPr/>
                <p:nvPr/>
              </p:nvSpPr>
              <p:spPr>
                <a:xfrm>
                  <a:off x="6389640" y="2298600"/>
                  <a:ext cx="59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弧形 15"/>
                <p:cNvSpPr/>
                <p:nvPr/>
              </p:nvSpPr>
              <p:spPr>
                <a:xfrm rot="4684800">
                  <a:off x="5378040" y="1905120"/>
                  <a:ext cx="1077840" cy="992160"/>
                </a:xfrm>
                <a:custGeom>
                  <a:avLst/>
                  <a:gdLst/>
                  <a:ahLst/>
                  <a:rect l="l" t="t" r="r" b="b"/>
                  <a:pathLst>
                    <a:path stroke="0" w="1077148" h="991432">
                      <a:moveTo>
                        <a:pt x="538574" y="0"/>
                      </a:moveTo>
                      <a:cubicBezTo>
                        <a:pt x="673030" y="0"/>
                        <a:pt x="802624" y="46291"/>
                        <a:pt x="901881" y="129774"/>
                      </a:cubicBezTo>
                      <a:lnTo>
                        <a:pt x="538574" y="495716"/>
                      </a:lnTo>
                      <a:lnTo>
                        <a:pt x="538574" y="0"/>
                      </a:lnTo>
                      <a:close/>
                    </a:path>
                    <a:path fill="none" w="1077148" h="991432">
                      <a:moveTo>
                        <a:pt x="538574" y="0"/>
                      </a:moveTo>
                      <a:cubicBezTo>
                        <a:pt x="673030" y="0"/>
                        <a:pt x="802624" y="46291"/>
                        <a:pt x="901881" y="1297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9" name="TextBox 15"/>
              <p:cNvSpPr/>
              <p:nvPr/>
            </p:nvSpPr>
            <p:spPr>
              <a:xfrm>
                <a:off x="6400080" y="2144520"/>
                <a:ext cx="54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矩形 36"/>
            <p:cNvSpPr/>
            <p:nvPr/>
          </p:nvSpPr>
          <p:spPr>
            <a:xfrm>
              <a:off x="5857200" y="227412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16"/>
          <p:cNvGrpSpPr/>
          <p:nvPr/>
        </p:nvGrpSpPr>
        <p:grpSpPr>
          <a:xfrm>
            <a:off x="1009080" y="2824200"/>
            <a:ext cx="3353400" cy="2288520"/>
            <a:chOff x="1009080" y="2824200"/>
            <a:chExt cx="3353400" cy="2288520"/>
          </a:xfrm>
        </p:grpSpPr>
        <p:grpSp>
          <p:nvGrpSpPr>
            <p:cNvPr id="212" name="组合 3"/>
            <p:cNvGrpSpPr/>
            <p:nvPr/>
          </p:nvGrpSpPr>
          <p:grpSpPr>
            <a:xfrm>
              <a:off x="1492200" y="2824200"/>
              <a:ext cx="2870280" cy="2288520"/>
              <a:chOff x="1492200" y="2824200"/>
              <a:chExt cx="2870280" cy="2288520"/>
            </a:xfrm>
          </p:grpSpPr>
          <p:sp>
            <p:nvSpPr>
              <p:cNvPr id="213" name="矩形 13"/>
              <p:cNvSpPr/>
              <p:nvPr/>
            </p:nvSpPr>
            <p:spPr>
              <a:xfrm>
                <a:off x="1492200" y="344736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14" name="组合 1"/>
              <p:cNvGrpSpPr/>
              <p:nvPr/>
            </p:nvGrpSpPr>
            <p:grpSpPr>
              <a:xfrm>
                <a:off x="2000160" y="2824200"/>
                <a:ext cx="2362320" cy="2288520"/>
                <a:chOff x="2000160" y="2824200"/>
                <a:chExt cx="2362320" cy="2288520"/>
              </a:xfrm>
            </p:grpSpPr>
            <p:sp>
              <p:nvSpPr>
                <p:cNvPr id="215" name="TextBox 15"/>
                <p:cNvSpPr/>
                <p:nvPr/>
              </p:nvSpPr>
              <p:spPr>
                <a:xfrm>
                  <a:off x="2129760" y="2824200"/>
                  <a:ext cx="223272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9  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8  0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" name="直接连接符 24"/>
                <p:cNvSpPr/>
                <p:nvPr/>
              </p:nvSpPr>
              <p:spPr>
                <a:xfrm>
                  <a:off x="2000160" y="449748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7" name="组合 16"/>
            <p:cNvGrpSpPr/>
            <p:nvPr/>
          </p:nvGrpSpPr>
          <p:grpSpPr>
            <a:xfrm>
              <a:off x="1009080" y="2890440"/>
              <a:ext cx="2521080" cy="1258560"/>
              <a:chOff x="1009080" y="2890440"/>
              <a:chExt cx="2521080" cy="1258560"/>
            </a:xfrm>
          </p:grpSpPr>
          <p:sp>
            <p:nvSpPr>
              <p:cNvPr id="218" name="直接连接符 19"/>
              <p:cNvSpPr/>
              <p:nvPr/>
            </p:nvSpPr>
            <p:spPr>
              <a:xfrm>
                <a:off x="2077560" y="3417840"/>
                <a:ext cx="1452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弧形 20"/>
              <p:cNvSpPr/>
              <p:nvPr/>
            </p:nvSpPr>
            <p:spPr>
              <a:xfrm rot="4684800">
                <a:off x="1067400" y="302328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372" h="992253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  <a:lnTo>
                      <a:pt x="538186" y="496127"/>
                    </a:lnTo>
                    <a:lnTo>
                      <a:pt x="538186" y="0"/>
                    </a:lnTo>
                    <a:close/>
                  </a:path>
                  <a:path fill="none" w="1076372" h="992253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0" name="组合 25"/>
          <p:cNvGrpSpPr/>
          <p:nvPr/>
        </p:nvGrpSpPr>
        <p:grpSpPr>
          <a:xfrm>
            <a:off x="5020560" y="2816280"/>
            <a:ext cx="3353400" cy="2288520"/>
            <a:chOff x="5020560" y="2816280"/>
            <a:chExt cx="3353400" cy="2288520"/>
          </a:xfrm>
        </p:grpSpPr>
        <p:grpSp>
          <p:nvGrpSpPr>
            <p:cNvPr id="221" name="组合 3"/>
            <p:cNvGrpSpPr/>
            <p:nvPr/>
          </p:nvGrpSpPr>
          <p:grpSpPr>
            <a:xfrm>
              <a:off x="5503680" y="2816280"/>
              <a:ext cx="2870280" cy="2288520"/>
              <a:chOff x="5503680" y="2816280"/>
              <a:chExt cx="2870280" cy="2288520"/>
            </a:xfrm>
          </p:grpSpPr>
          <p:sp>
            <p:nvSpPr>
              <p:cNvPr id="222" name="矩形 13"/>
              <p:cNvSpPr/>
              <p:nvPr/>
            </p:nvSpPr>
            <p:spPr>
              <a:xfrm>
                <a:off x="5503680" y="343944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3" name="组合 1"/>
              <p:cNvGrpSpPr/>
              <p:nvPr/>
            </p:nvGrpSpPr>
            <p:grpSpPr>
              <a:xfrm>
                <a:off x="6011640" y="2816280"/>
                <a:ext cx="2362320" cy="2288520"/>
                <a:chOff x="6011640" y="2816280"/>
                <a:chExt cx="2362320" cy="2288520"/>
              </a:xfrm>
            </p:grpSpPr>
            <p:sp>
              <p:nvSpPr>
                <p:cNvPr id="224" name="TextBox 15"/>
                <p:cNvSpPr/>
                <p:nvPr/>
              </p:nvSpPr>
              <p:spPr>
                <a:xfrm>
                  <a:off x="6141240" y="2816280"/>
                  <a:ext cx="223272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  0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直接连接符 33"/>
                <p:cNvSpPr/>
                <p:nvPr/>
              </p:nvSpPr>
              <p:spPr>
                <a:xfrm>
                  <a:off x="6011640" y="448956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6" name="组合 16"/>
            <p:cNvGrpSpPr/>
            <p:nvPr/>
          </p:nvGrpSpPr>
          <p:grpSpPr>
            <a:xfrm>
              <a:off x="5020560" y="2882520"/>
              <a:ext cx="2521080" cy="1258560"/>
              <a:chOff x="5020560" y="2882520"/>
              <a:chExt cx="2521080" cy="1258560"/>
            </a:xfrm>
          </p:grpSpPr>
          <p:sp>
            <p:nvSpPr>
              <p:cNvPr id="227" name="直接连接符 28"/>
              <p:cNvSpPr/>
              <p:nvPr/>
            </p:nvSpPr>
            <p:spPr>
              <a:xfrm>
                <a:off x="6089400" y="3409920"/>
                <a:ext cx="1452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弧形 29"/>
              <p:cNvSpPr/>
              <p:nvPr/>
            </p:nvSpPr>
            <p:spPr>
              <a:xfrm rot="4684800">
                <a:off x="5078520" y="3015720"/>
                <a:ext cx="1076760" cy="991800"/>
              </a:xfrm>
              <a:custGeom>
                <a:avLst/>
                <a:gdLst/>
                <a:ahLst/>
                <a:rect l="l" t="t" r="r" b="b"/>
                <a:pathLst>
                  <a:path stroke="0" w="1076372" h="992254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  <a:lnTo>
                      <a:pt x="538186" y="496127"/>
                    </a:lnTo>
                    <a:lnTo>
                      <a:pt x="538186" y="0"/>
                    </a:lnTo>
                    <a:close/>
                  </a:path>
                  <a:path fill="none" w="1076372" h="992254">
                    <a:moveTo>
                      <a:pt x="538186" y="0"/>
                    </a:moveTo>
                    <a:cubicBezTo>
                      <a:pt x="733840" y="0"/>
                      <a:pt x="914082" y="97884"/>
                      <a:pt x="1008920" y="25564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1:11:21Z</dcterms:modified>
  <cp:revision>4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